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6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ED1-866A-4FD7-9C4B-8F086A33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D7A-D9CF-4577-BA1E-1769707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44C-38E7-4542-92F6-96CA6CD7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AFC-20F8-4121-968B-6034C875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715C-2723-4736-A14E-B27550CD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2086-6131-4BA7-84BA-9D3E787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A1B-1E30-4531-9CEB-470423A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8E9C-4CE8-49A2-B277-4032F0E0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612-4EDF-45F5-924F-F5CC18AA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56B-F153-43FC-82F7-3B8C0114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621-8AD6-4F6A-9713-65294AF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030-DFE2-43DE-8075-BF947F5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5B1C-3A92-495E-B210-8435B94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25A-D79D-47CB-967C-DE09DD5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4EBF-65CE-4704-BCB7-CFBB5798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91E1-5C7F-4E43-8D02-17A2DB29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08B5-980B-4490-A677-01A37445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4E7-67C0-4BF9-A714-001DD6B3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D9F-7B75-4E0B-821E-22D62CD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18F-C5A4-46BF-BD9F-3025610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F80-4C22-44C8-9024-2B760F04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484-5F80-43B6-A056-44687DE3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4B5-E5B9-4C19-B9C8-C4206E6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86C-3523-4534-9666-3D93005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F8D1-4FDD-4F58-BF7C-26B254E6E8F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37FB-3B6A-4515-82D2-9AD7ADDF81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Теория графов и ее примене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Матрицы на графах</a:t>
            </a:r>
            <a:br>
              <a:rPr sz="36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Матрица смежности неориентированного  графа</a:t>
            </a: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05120" y="4038480"/>
            <a:ext cx="2361600" cy="1066680"/>
            <a:chOff x="1905120" y="4038480"/>
            <a:chExt cx="2361600" cy="1066680"/>
          </a:xfrm>
        </p:grpSpPr>
        <p:sp>
          <p:nvSpPr>
            <p:cNvPr id="117" name=""/>
            <p:cNvSpPr/>
            <p:nvPr/>
          </p:nvSpPr>
          <p:spPr>
            <a:xfrm flipH="1">
              <a:off x="2285640" y="4267080"/>
              <a:ext cx="12186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905120" y="4038480"/>
              <a:ext cx="2361600" cy="1066680"/>
              <a:chOff x="1905120" y="4038480"/>
              <a:chExt cx="2361600" cy="1066680"/>
            </a:xfrm>
          </p:grpSpPr>
          <p:sp>
            <p:nvSpPr>
              <p:cNvPr id="119" name=""/>
              <p:cNvSpPr/>
              <p:nvPr/>
            </p:nvSpPr>
            <p:spPr>
              <a:xfrm>
                <a:off x="4038480" y="480060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2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905120" y="4038480"/>
                <a:ext cx="2056680" cy="1066680"/>
                <a:chOff x="1905120" y="4038480"/>
                <a:chExt cx="2056680" cy="1066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09680" y="4267080"/>
                  <a:ext cx="12949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209680" y="4267080"/>
                  <a:ext cx="1752120" cy="68580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86000" y="4952880"/>
                  <a:ext cx="159984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09680" y="4267080"/>
                  <a:ext cx="75960" cy="68580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05120" y="40384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581280" y="40384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81080" y="487656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8" name=""/>
          <p:cNvSpPr/>
          <p:nvPr/>
        </p:nvSpPr>
        <p:spPr>
          <a:xfrm>
            <a:off x="4876920" y="43434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А=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715000" y="3886200"/>
                <a:ext cx="1523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410080" y="4419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Матрица смежности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- матрица размером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402000"/>
                </a:solidFill>
                <a:latin typeface="Wingdings 2"/>
                <a:ea typeface="Wingdings 2"/>
              </a:rPr>
              <a:t>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, элементы которой равны 1, если i-я вершина смежна с j-ой, и 0 в противном случае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Матрица смежности является симметричной и достаточно просто может использоваться для ввода и обработки на ЭВМ. Для случая взвешенного графа вместо 1 используется значение весовой функции и такая матрица называет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ся </a:t>
            </a:r>
            <a:r>
              <a:rPr b="0" i="1" lang="ru-RU" sz="1600" spc="-1" strike="noStrike">
                <a:solidFill>
                  <a:srgbClr val="402000"/>
                </a:solidFill>
                <a:latin typeface="Times New Roman"/>
              </a:rPr>
              <a:t>матрицей весов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. Матрица смежности обычно обозначается буквой </a:t>
            </a: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пример: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76920" y="3581280"/>
            <a:ext cx="2361960" cy="1676520"/>
            <a:chOff x="4876920" y="3581280"/>
            <a:chExt cx="2361960" cy="1676520"/>
          </a:xfrm>
        </p:grpSpPr>
        <p:grpSp>
          <p:nvGrpSpPr>
            <p:cNvPr id="133" name=""/>
            <p:cNvGrpSpPr/>
            <p:nvPr/>
          </p:nvGrpSpPr>
          <p:grpSpPr>
            <a:xfrm>
              <a:off x="4876920" y="3886200"/>
              <a:ext cx="2361960" cy="1371600"/>
              <a:chOff x="4876920" y="3886200"/>
              <a:chExt cx="2361960" cy="1371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76920" y="4343400"/>
                <a:ext cx="60948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2000"/>
                    </a:solidFill>
                    <a:latin typeface="Times New Roman"/>
                  </a:rPr>
                  <a:t>А=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" name=""/>
                  <p:cNvSpPr txBox="1"/>
                  <p:nvPr/>
                </p:nvSpPr>
                <p:spPr>
                  <a:xfrm>
                    <a:off x="5715000" y="3886200"/>
                    <a:ext cx="1523880" cy="13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" name=""/>
              <p:cNvSpPr/>
              <p:nvPr/>
            </p:nvSpPr>
            <p:spPr>
              <a:xfrm>
                <a:off x="5410080" y="44197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2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2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2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324480" y="3581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   2    3   4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Матрица смежности ориентированного  графа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Матрица смежности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- матрица размером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402000"/>
                </a:solidFill>
                <a:latin typeface="Wingdings 2"/>
                <a:ea typeface="Wingdings 2"/>
              </a:rPr>
              <a:t>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,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элементы которой равны 1, если i-я дуга входит j-ой, и 0 - в противном случае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пример: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971800"/>
            <a:ext cx="2209680" cy="1980720"/>
            <a:chOff x="1600200" y="2971800"/>
            <a:chExt cx="2209680" cy="1980720"/>
          </a:xfrm>
        </p:grpSpPr>
        <p:sp>
          <p:nvSpPr>
            <p:cNvPr id="141" name=""/>
            <p:cNvSpPr/>
            <p:nvPr/>
          </p:nvSpPr>
          <p:spPr>
            <a:xfrm>
              <a:off x="1600200" y="297180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752480" y="2971800"/>
              <a:ext cx="2057400" cy="1980720"/>
              <a:chOff x="1752480" y="2971800"/>
              <a:chExt cx="2057400" cy="1980720"/>
            </a:xfrm>
          </p:grpSpPr>
          <p:sp>
            <p:nvSpPr>
              <p:cNvPr id="143" name=""/>
              <p:cNvSpPr/>
              <p:nvPr/>
            </p:nvSpPr>
            <p:spPr>
              <a:xfrm>
                <a:off x="1905120" y="3124080"/>
                <a:ext cx="16002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1905120" y="3123720"/>
                <a:ext cx="838080" cy="8377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981080" y="3885480"/>
                <a:ext cx="762120" cy="9140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981080" y="4190760"/>
                <a:ext cx="1371600" cy="609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276720" y="3124080"/>
                <a:ext cx="228600" cy="10663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64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62320" y="380988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2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81280" y="297180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2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52680" y="4038480"/>
                <a:ext cx="22860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4724280" y="2895480"/>
            <a:ext cx="2721240" cy="2057400"/>
            <a:chOff x="4724280" y="2895480"/>
            <a:chExt cx="2721240" cy="2057400"/>
          </a:xfrm>
        </p:grpSpPr>
        <p:sp>
          <p:nvSpPr>
            <p:cNvPr id="153" name=""/>
            <p:cNvSpPr/>
            <p:nvPr/>
          </p:nvSpPr>
          <p:spPr>
            <a:xfrm>
              <a:off x="4724280" y="3733920"/>
              <a:ext cx="533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А =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562720" y="3048120"/>
                  <a:ext cx="18828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5181480" y="3809880"/>
              <a:ext cx="3049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28954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1   2   3  4   5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Матрица инцидентности неориентированного  графа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2000"/>
                </a:solidFill>
                <a:latin typeface="Tahoma"/>
              </a:rPr>
              <a:t>Матрица инцидентности</a:t>
            </a:r>
            <a:r>
              <a:rPr b="0" lang="ru-RU" sz="1600" spc="-1" strike="noStrike">
                <a:solidFill>
                  <a:srgbClr val="402000"/>
                </a:solidFill>
                <a:latin typeface="Tahoma"/>
              </a:rPr>
              <a:t>- матрица размером  (n- число вершин, m- число ребер), элементы которой равны 1, если i-я вершина инцидентна  j-му ребру, и 0 в противном случае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2000"/>
                </a:solidFill>
                <a:latin typeface="Tahoma"/>
              </a:rPr>
              <a:t>Матрица инцидентности</a:t>
            </a:r>
            <a:r>
              <a:rPr b="0" lang="ru-RU" sz="1600" spc="-1" strike="noStrike">
                <a:solidFill>
                  <a:srgbClr val="402000"/>
                </a:solidFill>
                <a:latin typeface="Tahoma"/>
              </a:rPr>
              <a:t> обычно обозначается буквой 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ahoma"/>
              </a:rPr>
              <a:t>пример:</a:t>
            </a:r>
            <a:r>
              <a:rPr b="0" i="1" lang="ru-RU" sz="1600" spc="-1" strike="noStrike">
                <a:solidFill>
                  <a:srgbClr val="402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71600" y="3200400"/>
            <a:ext cx="6387840" cy="2364480"/>
            <a:chOff x="1371600" y="3200400"/>
            <a:chExt cx="6387840" cy="2364480"/>
          </a:xfrm>
        </p:grpSpPr>
        <p:grpSp>
          <p:nvGrpSpPr>
            <p:cNvPr id="160" name=""/>
            <p:cNvGrpSpPr/>
            <p:nvPr/>
          </p:nvGrpSpPr>
          <p:grpSpPr>
            <a:xfrm>
              <a:off x="4572000" y="3200400"/>
              <a:ext cx="3187440" cy="2133720"/>
              <a:chOff x="4572000" y="3200400"/>
              <a:chExt cx="3187440" cy="21337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4572000" y="3505320"/>
                <a:ext cx="3187440" cy="1828800"/>
                <a:chOff x="4572000" y="3505320"/>
                <a:chExt cx="3187440" cy="18288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572000" y="4191120"/>
                  <a:ext cx="53352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2000"/>
                      </a:solidFill>
                      <a:latin typeface="Times New Roman"/>
                    </a:rPr>
                    <a:t>В=</a:t>
                  </a:r>
                  <a:endParaRPr b="0" lang="en-US" sz="1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4952880" y="3505320"/>
                  <a:ext cx="2806560" cy="1828800"/>
                  <a:chOff x="4952880" y="3505320"/>
                  <a:chExt cx="2806560" cy="18288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164" name=""/>
                      <p:cNvSpPr txBox="1"/>
                      <p:nvPr/>
                    </p:nvSpPr>
                    <p:spPr>
                      <a:xfrm>
                        <a:off x="5295600" y="3505320"/>
                        <a:ext cx="2463840" cy="18288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65" name=""/>
                      <p:cNvSpPr txBox="1"/>
                      <p:nvPr/>
                    </p:nvSpPr>
                    <p:spPr>
                      <a:xfrm>
                        <a:off x="4952880" y="3505320"/>
                        <a:ext cx="444240" cy="18288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166" name=""/>
                  <p:cNvSpPr txBox="1"/>
                  <p:nvPr/>
                </p:nvSpPr>
                <p:spPr>
                  <a:xfrm>
                    <a:off x="5334120" y="3200400"/>
                    <a:ext cx="2361960" cy="35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>
                              <m:r>
                                <m:t xml:space="preserve">а</m:t>
                              </m:r>
                            </m:e>
                            <m:e>
                              <m:r>
                                <m:t xml:space="preserve">б</m:t>
                              </m:r>
                            </m:e>
                            <m:e>
                              <m:r>
                                <m:t xml:space="preserve">с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7" name=""/>
            <p:cNvGrpSpPr/>
            <p:nvPr/>
          </p:nvGrpSpPr>
          <p:grpSpPr>
            <a:xfrm>
              <a:off x="1371600" y="3276720"/>
              <a:ext cx="2742120" cy="2288160"/>
              <a:chOff x="1371600" y="3276720"/>
              <a:chExt cx="2742120" cy="22881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371600" y="3276720"/>
                <a:ext cx="2742120" cy="2288160"/>
                <a:chOff x="1371600" y="3276720"/>
                <a:chExt cx="2742120" cy="22881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1600200" y="3581280"/>
                  <a:ext cx="2209680" cy="1752840"/>
                  <a:chOff x="1600200" y="3581280"/>
                  <a:chExt cx="2209680" cy="175284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1600200" y="3581280"/>
                    <a:ext cx="1752480" cy="1752840"/>
                    <a:chOff x="1600200" y="3581280"/>
                    <a:chExt cx="1752480" cy="1752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1600200" y="3581280"/>
                      <a:ext cx="1752480" cy="1066680"/>
                    </a:xfrm>
                    <a:prstGeom prst="line">
                      <a:avLst/>
                    </a:prstGeom>
                    <a:ln w="9360">
                      <a:solidFill>
                        <a:srgbClr val="402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1981080" y="3581640"/>
                      <a:ext cx="838440" cy="1752480"/>
                    </a:xfrm>
                    <a:prstGeom prst="line">
                      <a:avLst/>
                    </a:prstGeom>
                    <a:ln w="9360">
                      <a:solidFill>
                        <a:srgbClr val="402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1600200" y="3581280"/>
                    <a:ext cx="2209680" cy="1752840"/>
                    <a:chOff x="1600200" y="3581280"/>
                    <a:chExt cx="2209680" cy="17528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600200" y="4648320"/>
                      <a:ext cx="2209680" cy="0"/>
                    </a:xfrm>
                    <a:prstGeom prst="line">
                      <a:avLst/>
                    </a:prstGeom>
                    <a:ln w="9360">
                      <a:solidFill>
                        <a:srgbClr val="402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1600200" y="3581280"/>
                      <a:ext cx="2209680" cy="1067040"/>
                      <a:chOff x="1600200" y="3581280"/>
                      <a:chExt cx="2209680" cy="10670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981080" y="3581640"/>
                        <a:ext cx="137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2000"/>
                        </a:solidFill>
                        <a:miter/>
                        <a:headEnd len="med" type="oval" w="med"/>
                        <a:tail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 flipV="1">
                        <a:off x="1600200" y="3581280"/>
                        <a:ext cx="380880" cy="1066680"/>
                      </a:xfrm>
                      <a:prstGeom prst="line">
                        <a:avLst/>
                      </a:prstGeom>
                      <a:ln w="9360">
                        <a:solidFill>
                          <a:srgbClr val="402000"/>
                        </a:solidFill>
                        <a:miter/>
                        <a:headEnd len="med" type="oval" w="med"/>
                        <a:tail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3352680" y="3581640"/>
                        <a:ext cx="457200" cy="1066680"/>
                      </a:xfrm>
                      <a:prstGeom prst="line">
                        <a:avLst/>
                      </a:prstGeom>
                      <a:ln w="9360">
                        <a:solidFill>
                          <a:srgbClr val="402000"/>
                        </a:solidFill>
                        <a:miter/>
                        <a:headEnd len="med" type="oval" w="med"/>
                        <a:tail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9" name=""/>
                    <p:cNvSpPr/>
                    <p:nvPr/>
                  </p:nvSpPr>
                  <p:spPr>
                    <a:xfrm flipV="1">
                      <a:off x="2819520" y="4647960"/>
                      <a:ext cx="990360" cy="685800"/>
                    </a:xfrm>
                    <a:prstGeom prst="line">
                      <a:avLst/>
                    </a:prstGeom>
                    <a:ln w="9360">
                      <a:solidFill>
                        <a:srgbClr val="402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600200" y="4648320"/>
                      <a:ext cx="1219320" cy="685800"/>
                    </a:xfrm>
                    <a:prstGeom prst="line">
                      <a:avLst/>
                    </a:prstGeom>
                    <a:ln w="9360">
                      <a:solidFill>
                        <a:srgbClr val="402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1" name=""/>
                <p:cNvSpPr/>
                <p:nvPr/>
              </p:nvSpPr>
              <p:spPr>
                <a:xfrm>
                  <a:off x="1752840" y="3353040"/>
                  <a:ext cx="7596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62120" y="32767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71600" y="4496040"/>
                  <a:ext cx="152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43000" y="449604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20600" y="525780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2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23880" y="40384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а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14600" y="342900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с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05120" y="49528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05120" y="3886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б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43200" y="3962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71800" y="441972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57600" y="4038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w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52680" y="502920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2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</p:spTree>
  </p:cSld>
  <p:transition advTm="6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Матрица инцидентности ориентированного  графа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2000"/>
                </a:solidFill>
                <a:latin typeface="Tahoma"/>
              </a:rPr>
              <a:t>Матрица инцидентности</a:t>
            </a:r>
            <a:r>
              <a:rPr b="0" lang="ru-RU" sz="1600" spc="-1" strike="noStrike">
                <a:solidFill>
                  <a:srgbClr val="402000"/>
                </a:solidFill>
                <a:latin typeface="Tahoma"/>
              </a:rPr>
              <a:t>- матрица размером  (n- число вершин, m- число ребер), элементы которой равны 1, если дуга j выходит из вершины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i,</a:t>
            </a:r>
            <a:r>
              <a:rPr b="0" lang="ru-RU" sz="1600" spc="-1" strike="noStrike">
                <a:solidFill>
                  <a:srgbClr val="402000"/>
                </a:solidFill>
                <a:latin typeface="Tahoma"/>
              </a:rPr>
              <a:t> -1  если дуга j входит в вершины, и 0 в противном случае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2000"/>
                </a:solidFill>
                <a:latin typeface="Tahoma"/>
              </a:rPr>
              <a:t>Матрица инцидентности</a:t>
            </a:r>
            <a:r>
              <a:rPr b="0" lang="ru-RU" sz="1600" spc="-1" strike="noStrike">
                <a:solidFill>
                  <a:srgbClr val="402000"/>
                </a:solidFill>
                <a:latin typeface="Tahoma"/>
              </a:rPr>
              <a:t> обычно обозначается буквой 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ahoma"/>
              </a:rPr>
              <a:t>пример:</a:t>
            </a:r>
            <a:r>
              <a:rPr b="0" i="1" lang="ru-RU" sz="1600" spc="-1" strike="noStrike">
                <a:solidFill>
                  <a:srgbClr val="402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257800" y="3381480"/>
                <a:ext cx="2743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а</m:t>
                          </m:r>
                        </m:e>
                        <m:e>
                          <m:r>
                            <m:t xml:space="preserve">б</m:t>
                          </m:r>
                        </m:e>
                        <m:e>
                          <m:r>
                            <m:t xml:space="preserve">с</m:t>
                          </m:r>
                        </m:e>
                        <m:e>
                          <m:r>
                            <m:t xml:space="preserve">d</m:t>
                          </m:r>
                        </m:e>
                        <m:e>
                          <m:r>
                            <m:t xml:space="preserve">e</m:t>
                          </m:r>
                        </m:e>
                        <m:e>
                          <m:r>
                            <m:t xml:space="preserve">f</m:t>
                          </m:r>
                        </m:e>
                        <m:e>
                          <m:r>
                            <m:t xml:space="preserve">s</m:t>
                          </m:r>
                        </m:e>
                        <m:e>
                          <m:r>
                            <m:t xml:space="preserve">w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V="1">
            <a:off x="1600200" y="3581280"/>
            <a:ext cx="1752480" cy="10670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581280"/>
            <a:ext cx="1828800" cy="106704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581280"/>
            <a:ext cx="137160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lg" type="stealth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00200" y="3581280"/>
            <a:ext cx="380880" cy="1067040"/>
          </a:xfrm>
          <a:prstGeom prst="line">
            <a:avLst/>
          </a:prstGeom>
          <a:ln w="9360">
            <a:solidFill>
              <a:srgbClr val="402000"/>
            </a:solidFill>
            <a:miter/>
            <a:headEnd len="sm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581280"/>
            <a:ext cx="457200" cy="10670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334120"/>
            <a:ext cx="11430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648320"/>
            <a:ext cx="1219320" cy="685800"/>
          </a:xfrm>
          <a:prstGeom prst="line">
            <a:avLst/>
          </a:prstGeom>
          <a:ln w="9360">
            <a:solidFill>
              <a:srgbClr val="402000"/>
            </a:solidFill>
            <a:miter/>
            <a:headEnd len="lg" type="stealth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33526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6176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495680"/>
            <a:ext cx="1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43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7960" y="5334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34290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с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4952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б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952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3434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486400"/>
            <a:ext cx="7632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4648320"/>
            <a:ext cx="15264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54864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0" y="3429000"/>
            <a:ext cx="3505320" cy="1828800"/>
            <a:chOff x="4572000" y="3429000"/>
            <a:chExt cx="3505320" cy="1828800"/>
          </a:xfrm>
        </p:grpSpPr>
        <p:sp>
          <p:nvSpPr>
            <p:cNvPr id="220" name=""/>
            <p:cNvSpPr/>
            <p:nvPr/>
          </p:nvSpPr>
          <p:spPr>
            <a:xfrm>
              <a:off x="4572000" y="4191120"/>
              <a:ext cx="533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В=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5029200" y="3429000"/>
                  <a:ext cx="3048120" cy="18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</m:m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6633"/>
                </a:solidFill>
                <a:uFillTx/>
                <a:latin typeface="Times New Roman"/>
              </a:rPr>
              <a:t>Спасибо за уделённое внимани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2880" y="1904760"/>
            <a:ext cx="3810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962520"/>
            <a:ext cx="576360" cy="64908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2133720"/>
            <a:ext cx="649080" cy="647640"/>
          </a:xfrm>
          <a:prstGeom prst="irregularSeal1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4005360"/>
            <a:ext cx="647640" cy="576000"/>
          </a:xfrm>
          <a:prstGeom prst="irregularSeal1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4400" y="2014560"/>
            <a:ext cx="574920" cy="57636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58080" y="411480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Остроух Е.Н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52880" y="3962160"/>
            <a:ext cx="38102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44560" y="1292400"/>
          <a:ext cx="7738920" cy="47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292400"/>
                    <a:ext cx="773892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Times New Roman"/>
              </a:rPr>
              <a:t>ЛЕОНАРД ЭЙЛЕР (1707-1783)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" descr="Eiler.jpg (31880 bytes)"/>
          <p:cNvPicPr/>
          <p:nvPr/>
        </p:nvPicPr>
        <p:blipFill>
          <a:blip r:embed="rId1"/>
          <a:stretch/>
        </p:blipFill>
        <p:spPr>
          <a:xfrm>
            <a:off x="2484360" y="1324080"/>
            <a:ext cx="4451400" cy="52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З а д а ч а    Э й л е р 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300320"/>
            <a:ext cx="8077320" cy="5100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1447920"/>
            <a:ext cx="3200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Можно ли обойти все четыре части суши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пройдя по каждому мост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один раз, и вернутьс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90512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в исходную точку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advTm="5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772400" cy="4911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291440" cy="567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90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402000"/>
                </a:solidFill>
                <a:latin typeface="Tahoma"/>
              </a:rPr>
              <a:t>Для решения этой задачи Эйлер вводит понятие «сети» (называющейся в наше время «графом») как множества непересекающихся рёбер или связей, соединяющих пары вершин. Вот так выглядит этот граф, если наложить вершины и связи на карту  города &gt;&gt;&gt;&gt;&gt;&gt;</a:t>
            </a: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В графе, имеющим более двух вершин с нечетной степенью, такого обхода не существует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sh2" descr=""/>
          <p:cNvPicPr/>
          <p:nvPr/>
        </p:nvPicPr>
        <p:blipFill>
          <a:blip r:embed="rId1"/>
          <a:stretch/>
        </p:blipFill>
        <p:spPr>
          <a:xfrm>
            <a:off x="4443480" y="685800"/>
            <a:ext cx="4395600" cy="306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854680" y="3809880"/>
            <a:ext cx="2233800" cy="2743200"/>
          </a:xfrm>
          <a:prstGeom prst="rect">
            <a:avLst/>
          </a:prstGeom>
          <a:ln w="0">
            <a:noFill/>
          </a:ln>
        </p:spPr>
      </p:pic>
    </p:spTree>
  </p:cSld>
  <p:transition advTm="7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П р а в и л о    Э й л е р 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1.В графе, не имеющем вершин нечетных степеней, существует обход всех рёбер (причем каждое ребро проходится в точности один раз) с началом в любой вершине граф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2.В графе, имеющем две и только две вершины с нечетными степенями, существует обход с началом в одной вершине с нечетной степенью и концом  в другой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.В графе, имеющим более двух вершин с нечетной степенью, такого обхода не существует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 advTm="7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Основные понятия теории графов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f0526"/>
                </a:solidFill>
                <a:latin typeface="Tahoma"/>
              </a:rPr>
              <a:t>Граф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- непустое множество V и X- некоторый набор пар элементов из V. Элементы множества V называются вершинами, а элементы набора X- ребрами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f0526"/>
                </a:solidFill>
                <a:latin typeface="Tahoma"/>
              </a:rPr>
              <a:t>Подграф</a:t>
            </a:r>
            <a:r>
              <a:rPr b="0" i="1" lang="en-US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- подграфом графа G называется граф, все вершины и ребра которого содержатся среди вершин и ребер графа G. Остовый подграф содержит все вершины графа G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f0526"/>
                </a:solidFill>
                <a:latin typeface="Tahoma"/>
              </a:rPr>
              <a:t>Связный граф</a:t>
            </a:r>
            <a:r>
              <a:rPr b="0" i="1" lang="en-US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- граф, у которого для любых двух различных вершин существует цепь (последовательность смежных вершин), соединяющая их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f0526"/>
                </a:solidFill>
                <a:latin typeface="Tahoma"/>
              </a:rPr>
              <a:t>Взвешенный связный граф</a:t>
            </a:r>
            <a:r>
              <a:rPr b="0" i="1" lang="en-US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- связный граф, с заданной весовой функцией (каждому элементу набора X ставится в соответствие некоторое число - вес ребра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f0526"/>
                </a:solidFill>
                <a:latin typeface="Tahoma"/>
              </a:rPr>
              <a:t>Дерево</a:t>
            </a:r>
            <a:r>
              <a:rPr b="0" i="1" lang="en-US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- связный лес (граф не содержащий циклов)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f0526"/>
                </a:solidFill>
                <a:latin typeface="Tahoma"/>
              </a:rPr>
              <a:t>Остов </a:t>
            </a:r>
            <a:r>
              <a:rPr b="0" lang="en-US" sz="1600" spc="-1" strike="noStrike">
                <a:solidFill>
                  <a:srgbClr val="402000"/>
                </a:solidFill>
                <a:latin typeface="Tahoma"/>
              </a:rPr>
              <a:t>- остовый подграф, являющийся деревом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advTm="8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6:46:22Z</dcterms:created>
  <dc:creator>Рашидова Елена</dc:creator>
  <dc:description/>
  <dc:language>en-US</dc:language>
  <cp:lastModifiedBy>Евгений</cp:lastModifiedBy>
  <dcterms:modified xsi:type="dcterms:W3CDTF">2010-02-11T09:20:00Z</dcterms:modified>
  <cp:revision>9</cp:revision>
  <dc:subject/>
  <dc:title>Теория графов и ее применение </dc:title>
</cp:coreProperties>
</file>