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DF2-727F-4D3A-B92A-8FC60E6E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D59-F10D-424A-ACC0-E0BB0971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310-99B3-4FB2-AEF3-2366010C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0E4-BE82-4A74-B69D-62F949D9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DF6A-36B3-4731-BF4D-938B53A8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DEA1-B362-45E1-AFF9-CC5143A5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E612-203D-45B5-8181-5C2C56CA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85C0-D080-43B6-A905-B0D562D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778-E0EF-472D-8712-CBB8F249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F797-8F15-4677-9503-648C2259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BF0C-9F1A-4950-B29A-49E4BD7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07B-8FC3-40B6-A5F4-A8B8B6FC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53F3-7CBB-4B2B-B888-D309D2A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F1D6-0E25-447E-97C7-43C6B7B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5CFD-794E-4E89-AD97-09F76B3F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07F4-31DC-4E5F-B91E-C3122474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95B-3FBC-49D9-95DB-5897C923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186F-51F6-4965-A061-0D120305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91AD-698C-43C9-A4FB-E0BEB8B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ECC7-D330-4279-97FF-1B8ED3DF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AA82-A544-42D0-BAA9-B13B0B2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CDF5-8A74-419A-94AE-5ABB504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A8A-B996-41A4-9338-9B31A21B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F392-ABE3-4457-BE19-0689F6CF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9EC2-A409-404D-922E-74671B2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F6E2-8BA8-47BC-A474-CADCE1C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5367-F438-4974-AAD5-6ED97406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98C7-77EB-4993-B89A-EA6AC81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7A49-71D2-484D-9657-920B711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A5EC-325B-41DD-BDC6-512D1980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EF42-80E0-4099-A338-AFE0E7F2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0177-C56F-4698-B338-6F33E182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1A650-C13C-499F-BF96-4E2759B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682-F78B-4658-A18B-162B56F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E980-BC32-48D8-AAD9-87D50912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887B-2AF0-49A6-9E71-DD97A8B6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8725-1965-4771-8C03-19B447B8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4FEC-64C8-48D8-801C-A3C4222F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7F0C-E789-40F9-A778-B8A2DBF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0D21-6F99-4C2A-A180-21DB1F7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B86B-E6C9-4ACD-95A3-975E11A8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C748-007B-4109-88DD-E7DA25BB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FC42-CD52-42B8-8168-F5329815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6C4C3-5C3C-4D76-A432-9788C2FB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E5C-4F79-44E7-8B7B-3B34BE0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32886-0967-44E1-8A40-553CB35A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707E-23F8-4C03-BA63-4F7AA7FE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EA4C-A271-4307-985A-1F8D3DAF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B0449-4E1E-436A-B5C4-2E75EF1F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7B490-9C10-4A87-800A-F98F6635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B435-DB80-4B6A-88DF-1A9188C2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20BC-5EA9-4039-89C5-0AD8BE5E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6249F-31FD-40E7-983D-860B48F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BE7F9-E66D-4123-9834-A5FCBE9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7089-DD10-48AD-A389-E67E88D4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003-E200-4AE7-A5B1-0DBABCF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86964-9DDD-47C8-886F-FBACB16C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FDC7-7AB7-4366-ABE1-C95F4326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D92D-6246-4C0C-A368-A174B81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628C7-5257-4D5D-9532-68FCF2AC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6E9B6-5458-4513-B893-6735F192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B8FE7-8649-4943-AD75-0EE4F58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C3A65-0A4B-4903-9EB4-9F379466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3626-66BB-4A1E-B93D-7774D96B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AE42-85BB-4C3E-A49E-FF800BE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97945-5283-4508-822E-153F9989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C02-D2F3-4200-B554-A32B6D5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FE987-8912-41C3-8B36-6E94C03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26E2C-B7DF-443D-8494-DEBA0DC8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E40B-9147-4F0F-AC5E-1AED4F76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5D28-667C-436E-9218-0A9C34D1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68E8-3189-47A5-A7A3-5FC2A42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8FC34-5B73-464F-9F55-5E1AF441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31E2-199C-4B0C-98FA-9E300E21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69617-C5F6-4C8E-AFA9-BA63C0E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6697C-34AF-4465-92AD-745E0F80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91CB8-F722-4285-B350-F9EFEB13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68D-411F-4DE5-B01E-964A635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F95A7-B34A-4881-A6BB-805B4F0D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93AD-5825-4E1B-8691-0F2FFE8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E636-6548-46D4-8288-7BF08E61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3892-AC3F-48D1-BE1F-3797D05F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82AC3-70A2-4720-90DF-459280DB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4D8-6BC3-4317-9AF4-2A93AD3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F185-C638-4256-81CE-F774E358DE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43C2-418D-469B-B877-CF33DED639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E9D-C11F-46C7-9FC7-A243D67AB6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FEC7-35E9-4C74-926C-E2BD636972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107A-FD14-42C9-9DF2-CD596DA25C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F78-0842-4900-935F-4D8EAC2D22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7E32-A979-40F9-8E61-76653983A9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71400" y="22143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572314"/>
                </a:solidFill>
                <a:uFillTx/>
                <a:latin typeface="Corbel"/>
              </a:rPr>
              <a:t>Потоки в сетях.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1620000" y="-36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 задачи 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то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971640" y="6915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ан гра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ный, без циклов, нумерация вершины от меньшего номера к большем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3028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3" descr=""/>
          <p:cNvPicPr/>
          <p:nvPr/>
        </p:nvPicPr>
        <p:blipFill>
          <a:blip r:embed="rId2"/>
          <a:stretch/>
        </p:blipFill>
        <p:spPr>
          <a:xfrm>
            <a:off x="1042920" y="4941720"/>
            <a:ext cx="81010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3" descr="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108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632720" cy="933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5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8101080" cy="1090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6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7956720" cy="1735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7" descr=""/>
          <p:cNvPicPr/>
          <p:nvPr/>
        </p:nvPicPr>
        <p:blipFill>
          <a:blip r:embed="rId5"/>
          <a:stretch/>
        </p:blipFill>
        <p:spPr>
          <a:xfrm>
            <a:off x="2268360" y="5084640"/>
            <a:ext cx="41752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1116000" y="0"/>
            <a:ext cx="1676520" cy="1162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8101080" cy="682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8101080" cy="482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4"/>
          <a:stretch/>
        </p:blipFill>
        <p:spPr>
          <a:xfrm>
            <a:off x="1116000" y="2708280"/>
            <a:ext cx="5010120" cy="1162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5"/>
          <a:stretch/>
        </p:blipFill>
        <p:spPr>
          <a:xfrm>
            <a:off x="1074600" y="4076640"/>
            <a:ext cx="8069400" cy="1154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"/>
          <p:cNvPicPr/>
          <p:nvPr/>
        </p:nvPicPr>
        <p:blipFill>
          <a:blip r:embed="rId6"/>
          <a:stretch/>
        </p:blipFill>
        <p:spPr>
          <a:xfrm>
            <a:off x="1116000" y="5516640"/>
            <a:ext cx="802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1763640" y="0"/>
            <a:ext cx="4714920" cy="961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4238640" cy="1419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4095720" cy="3621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8"/>
          <p:cNvSpPr/>
          <p:nvPr/>
        </p:nvSpPr>
        <p:spPr>
          <a:xfrm>
            <a:off x="1260360" y="29235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ерация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2" descr=""/>
          <p:cNvPicPr/>
          <p:nvPr/>
        </p:nvPicPr>
        <p:blipFill>
          <a:blip r:embed="rId4"/>
          <a:stretch/>
        </p:blipFill>
        <p:spPr>
          <a:xfrm>
            <a:off x="1187280" y="3429000"/>
            <a:ext cx="5905800" cy="26449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4"/>
          <p:cNvSpPr/>
          <p:nvPr/>
        </p:nvSpPr>
        <p:spPr>
          <a:xfrm>
            <a:off x="2129400" y="61646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Пометка дл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3"/>
              <p:cNvSpPr txBox="1"/>
              <p:nvPr/>
            </p:nvSpPr>
            <p:spPr>
              <a:xfrm>
                <a:off x="4140360" y="6093000"/>
                <a:ext cx="1511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1763640" y="0"/>
            <a:ext cx="5977080" cy="3639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5743800" cy="142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"/>
          <p:cNvPicPr/>
          <p:nvPr/>
        </p:nvPicPr>
        <p:blipFill>
          <a:blip r:embed="rId3"/>
          <a:stretch/>
        </p:blipFill>
        <p:spPr>
          <a:xfrm>
            <a:off x="1187280" y="5157720"/>
            <a:ext cx="4753080" cy="4111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8"/>
          <p:cNvSpPr/>
          <p:nvPr/>
        </p:nvSpPr>
        <p:spPr>
          <a:xfrm>
            <a:off x="1042920" y="558900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9"/>
              <p:cNvSpPr txBox="1"/>
              <p:nvPr/>
            </p:nvSpPr>
            <p:spPr>
              <a:xfrm>
                <a:off x="2627280" y="5516640"/>
                <a:ext cx="1440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11"/>
          <p:cNvSpPr/>
          <p:nvPr/>
        </p:nvSpPr>
        <p:spPr>
          <a:xfrm>
            <a:off x="1044360" y="5949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1044360" y="63810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3"/>
              <p:cNvSpPr txBox="1"/>
              <p:nvPr/>
            </p:nvSpPr>
            <p:spPr>
              <a:xfrm>
                <a:off x="2627280" y="5877000"/>
                <a:ext cx="3816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5"/>
              <p:cNvSpPr txBox="1"/>
              <p:nvPr/>
            </p:nvSpPr>
            <p:spPr>
              <a:xfrm>
                <a:off x="2627280" y="6275520"/>
                <a:ext cx="3889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188000" y="1148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5"/>
              <p:cNvSpPr txBox="1"/>
              <p:nvPr/>
            </p:nvSpPr>
            <p:spPr>
              <a:xfrm>
                <a:off x="2916360" y="115920"/>
                <a:ext cx="3456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Rectangle 7"/>
          <p:cNvSpPr/>
          <p:nvPr/>
        </p:nvSpPr>
        <p:spPr>
          <a:xfrm>
            <a:off x="1188000" y="6199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8"/>
              <p:cNvSpPr txBox="1"/>
              <p:nvPr/>
            </p:nvSpPr>
            <p:spPr>
              <a:xfrm>
                <a:off x="2916360" y="549360"/>
                <a:ext cx="1368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Rectangle 10"/>
          <p:cNvSpPr/>
          <p:nvPr/>
        </p:nvSpPr>
        <p:spPr>
          <a:xfrm>
            <a:off x="1188000" y="1124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2987640" y="1052640"/>
                <a:ext cx="403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Rectangle 1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1042920" y="1628640"/>
                <a:ext cx="4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1" name="Rectangle 15"/>
          <p:cNvSpPr/>
          <p:nvPr/>
        </p:nvSpPr>
        <p:spPr>
          <a:xfrm>
            <a:off x="1542600" y="1757880"/>
            <a:ext cx="49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лучена и не может быть полу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16"/>
              <p:cNvSpPr txBox="1"/>
              <p:nvPr/>
            </p:nvSpPr>
            <p:spPr>
              <a:xfrm>
                <a:off x="1258920" y="2205000"/>
                <a:ext cx="4248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8"/>
              <p:cNvSpPr txBox="1"/>
              <p:nvPr/>
            </p:nvSpPr>
            <p:spPr>
              <a:xfrm>
                <a:off x="1258920" y="2852640"/>
                <a:ext cx="432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20"/>
          <p:cNvSpPr/>
          <p:nvPr/>
        </p:nvSpPr>
        <p:spPr>
          <a:xfrm>
            <a:off x="1116360" y="349920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то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21"/>
              <p:cNvSpPr txBox="1"/>
              <p:nvPr/>
            </p:nvSpPr>
            <p:spPr>
              <a:xfrm>
                <a:off x="3492360" y="3500280"/>
                <a:ext cx="2232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8,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Rectangle 2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23"/>
              <p:cNvSpPr txBox="1"/>
              <p:nvPr/>
            </p:nvSpPr>
            <p:spPr>
              <a:xfrm>
                <a:off x="3492360" y="4071960"/>
                <a:ext cx="223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,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Rectangle 2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25"/>
              <p:cNvSpPr txBox="1"/>
              <p:nvPr/>
            </p:nvSpPr>
            <p:spPr>
              <a:xfrm>
                <a:off x="3492360" y="4581360"/>
                <a:ext cx="1055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,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Rectangle 2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27"/>
              <p:cNvSpPr txBox="1"/>
              <p:nvPr/>
            </p:nvSpPr>
            <p:spPr>
              <a:xfrm>
                <a:off x="3492360" y="5084640"/>
                <a:ext cx="216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4,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Rectangle 30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29"/>
              <p:cNvSpPr txBox="1"/>
              <p:nvPr/>
            </p:nvSpPr>
            <p:spPr>
              <a:xfrm>
                <a:off x="3492360" y="5589720"/>
                <a:ext cx="1943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,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1042920" y="73800"/>
            <a:ext cx="810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этой итерации насыщенных дуг не появилос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380360" cy="33242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16000" y="378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ерация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1117080" y="42202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2771640" y="4057560"/>
                <a:ext cx="1513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10"/>
          <p:cNvSpPr/>
          <p:nvPr/>
        </p:nvSpPr>
        <p:spPr>
          <a:xfrm>
            <a:off x="1117080" y="47235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11"/>
              <p:cNvSpPr txBox="1"/>
              <p:nvPr/>
            </p:nvSpPr>
            <p:spPr>
              <a:xfrm>
                <a:off x="2771640" y="4557600"/>
                <a:ext cx="1513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13"/>
          <p:cNvSpPr/>
          <p:nvPr/>
        </p:nvSpPr>
        <p:spPr>
          <a:xfrm>
            <a:off x="1117080" y="51570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4"/>
              <p:cNvSpPr txBox="1"/>
              <p:nvPr/>
            </p:nvSpPr>
            <p:spPr>
              <a:xfrm>
                <a:off x="2771640" y="5013360"/>
                <a:ext cx="4608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Rectangle 16"/>
          <p:cNvSpPr/>
          <p:nvPr/>
        </p:nvSpPr>
        <p:spPr>
          <a:xfrm>
            <a:off x="1117080" y="55890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8"/>
              <p:cNvSpPr txBox="1"/>
              <p:nvPr/>
            </p:nvSpPr>
            <p:spPr>
              <a:xfrm>
                <a:off x="2771640" y="5445000"/>
                <a:ext cx="4680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Rectangle 20"/>
          <p:cNvSpPr/>
          <p:nvPr/>
        </p:nvSpPr>
        <p:spPr>
          <a:xfrm>
            <a:off x="1117080" y="60206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1117080" y="64904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2"/>
              <p:cNvSpPr txBox="1"/>
              <p:nvPr/>
            </p:nvSpPr>
            <p:spPr>
              <a:xfrm>
                <a:off x="2771640" y="5857920"/>
                <a:ext cx="3961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2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4"/>
              <p:cNvSpPr txBox="1"/>
              <p:nvPr/>
            </p:nvSpPr>
            <p:spPr>
              <a:xfrm>
                <a:off x="2771640" y="6308640"/>
                <a:ext cx="4273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Rectangle 26"/>
          <p:cNvSpPr/>
          <p:nvPr/>
        </p:nvSpPr>
        <p:spPr>
          <a:xfrm>
            <a:off x="3204720" y="64904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7"/>
              <p:cNvSpPr txBox="1"/>
              <p:nvPr/>
            </p:nvSpPr>
            <p:spPr>
              <a:xfrm>
                <a:off x="3564000" y="6381720"/>
                <a:ext cx="369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Rectangle 29"/>
          <p:cNvSpPr/>
          <p:nvPr/>
        </p:nvSpPr>
        <p:spPr>
          <a:xfrm>
            <a:off x="3926880" y="64904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тмеч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1044000" y="1882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2627280" y="115920"/>
                <a:ext cx="3384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Rectangle 8"/>
          <p:cNvSpPr/>
          <p:nvPr/>
        </p:nvSpPr>
        <p:spPr>
          <a:xfrm>
            <a:off x="1044000" y="61992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2627280" y="539640"/>
                <a:ext cx="3384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Rectangle 11"/>
          <p:cNvSpPr/>
          <p:nvPr/>
        </p:nvSpPr>
        <p:spPr>
          <a:xfrm>
            <a:off x="1042560" y="119592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е потоки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2"/>
              <p:cNvSpPr txBox="1"/>
              <p:nvPr/>
            </p:nvSpPr>
            <p:spPr>
              <a:xfrm>
                <a:off x="3132000" y="1125360"/>
                <a:ext cx="216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8,9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1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4"/>
              <p:cNvSpPr txBox="1"/>
              <p:nvPr/>
            </p:nvSpPr>
            <p:spPr>
              <a:xfrm>
                <a:off x="3132000" y="1628640"/>
                <a:ext cx="1944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6,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Rectangle 1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6"/>
              <p:cNvSpPr txBox="1"/>
              <p:nvPr/>
            </p:nvSpPr>
            <p:spPr>
              <a:xfrm>
                <a:off x="3132000" y="2119320"/>
                <a:ext cx="1871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5,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Rectangle 1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8"/>
              <p:cNvSpPr txBox="1"/>
              <p:nvPr/>
            </p:nvSpPr>
            <p:spPr>
              <a:xfrm>
                <a:off x="3132000" y="2637000"/>
                <a:ext cx="194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4,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0"/>
              <p:cNvSpPr txBox="1"/>
              <p:nvPr/>
            </p:nvSpPr>
            <p:spPr>
              <a:xfrm>
                <a:off x="3132000" y="3122640"/>
                <a:ext cx="19447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,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Rectangle 22"/>
          <p:cNvSpPr/>
          <p:nvPr/>
        </p:nvSpPr>
        <p:spPr>
          <a:xfrm>
            <a:off x="1045080" y="359928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ась насыщенная д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23"/>
              <p:cNvSpPr txBox="1"/>
              <p:nvPr/>
            </p:nvSpPr>
            <p:spPr>
              <a:xfrm>
                <a:off x="5435640" y="3500280"/>
                <a:ext cx="1152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Rectangle 25"/>
          <p:cNvSpPr/>
          <p:nvPr/>
        </p:nvSpPr>
        <p:spPr>
          <a:xfrm>
            <a:off x="972000" y="413460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ерация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1042920" y="458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7"/>
              <p:cNvSpPr txBox="1"/>
              <p:nvPr/>
            </p:nvSpPr>
            <p:spPr>
              <a:xfrm>
                <a:off x="2627280" y="4460760"/>
                <a:ext cx="1368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Rectangle 29"/>
          <p:cNvSpPr/>
          <p:nvPr/>
        </p:nvSpPr>
        <p:spPr>
          <a:xfrm>
            <a:off x="1042920" y="5012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0"/>
              <p:cNvSpPr txBox="1"/>
              <p:nvPr/>
            </p:nvSpPr>
            <p:spPr>
              <a:xfrm>
                <a:off x="2556000" y="4856040"/>
                <a:ext cx="3600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32"/>
          <p:cNvSpPr/>
          <p:nvPr/>
        </p:nvSpPr>
        <p:spPr>
          <a:xfrm>
            <a:off x="1042920" y="544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33"/>
              <p:cNvSpPr txBox="1"/>
              <p:nvPr/>
            </p:nvSpPr>
            <p:spPr>
              <a:xfrm>
                <a:off x="2556000" y="5373720"/>
                <a:ext cx="3744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5"/>
              <p:cNvSpPr txBox="1"/>
              <p:nvPr/>
            </p:nvSpPr>
            <p:spPr>
              <a:xfrm>
                <a:off x="2556000" y="5734080"/>
                <a:ext cx="369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4" name="Rectangle 37"/>
          <p:cNvSpPr/>
          <p:nvPr/>
        </p:nvSpPr>
        <p:spPr>
          <a:xfrm>
            <a:off x="2990520" y="580464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ожет быть помеч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38"/>
              <p:cNvSpPr txBox="1"/>
              <p:nvPr/>
            </p:nvSpPr>
            <p:spPr>
              <a:xfrm>
                <a:off x="2556000" y="6165720"/>
                <a:ext cx="40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1116000" y="0"/>
                <a:ext cx="412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9" name="Rectangle 6"/>
          <p:cNvSpPr/>
          <p:nvPr/>
        </p:nvSpPr>
        <p:spPr>
          <a:xfrm>
            <a:off x="1550520" y="11520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ожет быть помеч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7"/>
              <p:cNvSpPr txBox="1"/>
              <p:nvPr/>
            </p:nvSpPr>
            <p:spPr>
              <a:xfrm>
                <a:off x="1042920" y="412920"/>
                <a:ext cx="48243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)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9"/>
              <p:cNvSpPr txBox="1"/>
              <p:nvPr/>
            </p:nvSpPr>
            <p:spPr>
              <a:xfrm>
                <a:off x="1042920" y="907920"/>
                <a:ext cx="42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4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11"/>
              <p:cNvSpPr txBox="1"/>
              <p:nvPr/>
            </p:nvSpPr>
            <p:spPr>
              <a:xfrm>
                <a:off x="1547640" y="907920"/>
                <a:ext cx="44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6" name="Rectangle 1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3"/>
              <p:cNvSpPr txBox="1"/>
              <p:nvPr/>
            </p:nvSpPr>
            <p:spPr>
              <a:xfrm>
                <a:off x="2050920" y="907920"/>
                <a:ext cx="44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Rectangle 15"/>
          <p:cNvSpPr/>
          <p:nvPr/>
        </p:nvSpPr>
        <p:spPr>
          <a:xfrm>
            <a:off x="2556720" y="10519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льзя помет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1032840" y="1483560"/>
            <a:ext cx="74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поток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еличин 29,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з имеет ви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7"/>
              <p:cNvSpPr txBox="1"/>
              <p:nvPr/>
            </p:nvSpPr>
            <p:spPr>
              <a:xfrm>
                <a:off x="1258920" y="1916280"/>
                <a:ext cx="3744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Rectangle 19"/>
          <p:cNvSpPr/>
          <p:nvPr/>
        </p:nvSpPr>
        <p:spPr>
          <a:xfrm>
            <a:off x="971640" y="2587680"/>
            <a:ext cx="817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зреза =10+4+8+7=29= величин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тока. Вершина 9 не помечена и никаких других  пометок нельзя расставить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0"/>
          <p:cNvSpPr/>
          <p:nvPr/>
        </p:nvSpPr>
        <p:spPr>
          <a:xfrm>
            <a:off x="975960" y="3357000"/>
            <a:ext cx="60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рез отделяет  множество помеченных верш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6877080" y="3284640"/>
                <a:ext cx="2266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</m:d>
                    <m:sSub>
                      <m:e/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Rectangle 24"/>
          <p:cNvSpPr/>
          <p:nvPr/>
        </p:nvSpPr>
        <p:spPr>
          <a:xfrm>
            <a:off x="847800" y="3735720"/>
            <a:ext cx="2500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  <a:ea typeface="Times New Roman"/>
              </a:rPr>
              <a:t>от  непомеченных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3"/>
              <p:cNvSpPr txBox="1"/>
              <p:nvPr/>
            </p:nvSpPr>
            <p:spPr>
              <a:xfrm>
                <a:off x="2987640" y="3716280"/>
                <a:ext cx="1152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25"/>
          <p:cNvSpPr/>
          <p:nvPr/>
        </p:nvSpPr>
        <p:spPr>
          <a:xfrm>
            <a:off x="971640" y="413460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6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6875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4"/>
              <p:cNvSpPr txBox="1"/>
              <p:nvPr/>
            </p:nvSpPr>
            <p:spPr>
              <a:xfrm>
                <a:off x="1042920" y="0"/>
                <a:ext cx="4572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2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7"/>
              <p:cNvSpPr txBox="1"/>
              <p:nvPr/>
            </p:nvSpPr>
            <p:spPr>
              <a:xfrm>
                <a:off x="1042920" y="404640"/>
                <a:ext cx="4809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4" name="Rectangle 9"/>
          <p:cNvSpPr/>
          <p:nvPr/>
        </p:nvSpPr>
        <p:spPr>
          <a:xfrm>
            <a:off x="1546920" y="17388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сточ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1547640" y="6055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971640" y="100080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ные способности дуг указаны на рису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13"/>
              <p:cNvSpPr txBox="1"/>
              <p:nvPr/>
            </p:nvSpPr>
            <p:spPr>
              <a:xfrm>
                <a:off x="3780000" y="1268280"/>
                <a:ext cx="349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2"/>
              <p:cNvSpPr txBox="1"/>
              <p:nvPr/>
            </p:nvSpPr>
            <p:spPr>
              <a:xfrm>
                <a:off x="4500720" y="1268280"/>
                <a:ext cx="368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Rectangle 14"/>
          <p:cNvSpPr/>
          <p:nvPr/>
        </p:nvSpPr>
        <p:spPr>
          <a:xfrm>
            <a:off x="757800" y="139284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Найт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max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поток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4125600" y="13928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960840" y="1829520"/>
            <a:ext cx="72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ый поток – с нулевыми значениями на всех дуг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8"/>
          <p:cNvSpPr/>
          <p:nvPr/>
        </p:nvSpPr>
        <p:spPr>
          <a:xfrm>
            <a:off x="974160" y="227592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аг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пи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9"/>
              <p:cNvSpPr txBox="1"/>
              <p:nvPr/>
            </p:nvSpPr>
            <p:spPr>
              <a:xfrm>
                <a:off x="3059280" y="2205000"/>
                <a:ext cx="296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5" name="Rectangle 21"/>
          <p:cNvSpPr/>
          <p:nvPr/>
        </p:nvSpPr>
        <p:spPr>
          <a:xfrm>
            <a:off x="3494160" y="22759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22"/>
              <p:cNvSpPr txBox="1"/>
              <p:nvPr/>
            </p:nvSpPr>
            <p:spPr>
              <a:xfrm>
                <a:off x="4500720" y="2228760"/>
                <a:ext cx="1079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24"/>
          <p:cNvSpPr/>
          <p:nvPr/>
        </p:nvSpPr>
        <p:spPr>
          <a:xfrm>
            <a:off x="974880" y="278064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аг 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(1) множество верш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25"/>
              <p:cNvSpPr txBox="1"/>
              <p:nvPr/>
            </p:nvSpPr>
            <p:spPr>
              <a:xfrm>
                <a:off x="4356000" y="2637000"/>
                <a:ext cx="4176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≺</m:t>
                        </m:r>
                        <m:r>
                          <m:rPr>
                            <m:lit/>
                            <m:nor/>
                          </m:rPr>
                          <m:t xml:space="preserve">gij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непомечен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Rectangle 27"/>
          <p:cNvSpPr/>
          <p:nvPr/>
        </p:nvSpPr>
        <p:spPr>
          <a:xfrm>
            <a:off x="1044360" y="321228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28"/>
              <p:cNvSpPr txBox="1"/>
              <p:nvPr/>
            </p:nvSpPr>
            <p:spPr>
              <a:xfrm>
                <a:off x="1763640" y="3213000"/>
                <a:ext cx="720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4" name="Rectangle 3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6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6726240" cy="9622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7"/>
          <p:cNvSpPr/>
          <p:nvPr/>
        </p:nvSpPr>
        <p:spPr>
          <a:xfrm>
            <a:off x="1046160" y="46522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Множество верш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38"/>
              <p:cNvSpPr txBox="1"/>
              <p:nvPr/>
            </p:nvSpPr>
            <p:spPr>
              <a:xfrm>
                <a:off x="3492360" y="4508640"/>
                <a:ext cx="28800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≻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0" name="Rectangle 40"/>
          <p:cNvSpPr/>
          <p:nvPr/>
        </p:nvSpPr>
        <p:spPr>
          <a:xfrm>
            <a:off x="6375240" y="4580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меч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1044000" y="5083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2"/>
              <p:cNvSpPr txBox="1"/>
              <p:nvPr/>
            </p:nvSpPr>
            <p:spPr>
              <a:xfrm>
                <a:off x="1763640" y="4941720"/>
                <a:ext cx="3128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4" name="Rectangle 44"/>
          <p:cNvSpPr/>
          <p:nvPr/>
        </p:nvSpPr>
        <p:spPr>
          <a:xfrm>
            <a:off x="2127600" y="508392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чена и просмотре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45"/>
              <p:cNvSpPr txBox="1"/>
              <p:nvPr/>
            </p:nvSpPr>
            <p:spPr>
              <a:xfrm>
                <a:off x="5003640" y="4941720"/>
                <a:ext cx="3686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7" name="Rectangle 47"/>
          <p:cNvSpPr/>
          <p:nvPr/>
        </p:nvSpPr>
        <p:spPr>
          <a:xfrm>
            <a:off x="5436720" y="50839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48"/>
              <p:cNvSpPr txBox="1"/>
              <p:nvPr/>
            </p:nvSpPr>
            <p:spPr>
              <a:xfrm>
                <a:off x="5796000" y="4941720"/>
                <a:ext cx="3682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Rectangle 50"/>
          <p:cNvSpPr/>
          <p:nvPr/>
        </p:nvSpPr>
        <p:spPr>
          <a:xfrm>
            <a:off x="6227640" y="5084280"/>
            <a:ext cx="31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ечены и не просмотрен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1"/>
          <p:cNvSpPr/>
          <p:nvPr/>
        </p:nvSpPr>
        <p:spPr>
          <a:xfrm>
            <a:off x="975960" y="551592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се остальные вершины    не поме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72314"/>
                </a:solidFill>
                <a:uFillTx/>
                <a:latin typeface="Corbel"/>
              </a:rPr>
              <a:t>Варианты задач: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000080" y="2214720"/>
            <a:ext cx="8143920" cy="1214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1000080" y="857160"/>
            <a:ext cx="8143920" cy="1143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1071720" y="3643200"/>
            <a:ext cx="8072280" cy="1419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4"/>
          <a:stretch/>
        </p:blipFill>
        <p:spPr>
          <a:xfrm>
            <a:off x="1071720" y="5357880"/>
            <a:ext cx="8072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964440" y="100800"/>
            <a:ext cx="59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аг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ервой просмотрим вершин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5"/>
              <p:cNvSpPr txBox="1"/>
              <p:nvPr/>
            </p:nvSpPr>
            <p:spPr>
              <a:xfrm>
                <a:off x="6804000" y="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5" name="Picture 7" descr=""/>
          <p:cNvPicPr/>
          <p:nvPr/>
        </p:nvPicPr>
        <p:blipFill>
          <a:blip r:embed="rId1"/>
          <a:stretch/>
        </p:blipFill>
        <p:spPr>
          <a:xfrm>
            <a:off x="1084320" y="549360"/>
            <a:ext cx="8059680" cy="1523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8"/>
          <p:cNvSpPr/>
          <p:nvPr/>
        </p:nvSpPr>
        <p:spPr>
          <a:xfrm>
            <a:off x="974880" y="20599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верш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9"/>
              <p:cNvSpPr txBox="1"/>
              <p:nvPr/>
            </p:nvSpPr>
            <p:spPr>
              <a:xfrm>
                <a:off x="2916360" y="1916280"/>
                <a:ext cx="349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9" name="Rectangle 11"/>
          <p:cNvSpPr/>
          <p:nvPr/>
        </p:nvSpPr>
        <p:spPr>
          <a:xfrm>
            <a:off x="3276720" y="20599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12"/>
              <p:cNvSpPr txBox="1"/>
              <p:nvPr/>
            </p:nvSpPr>
            <p:spPr>
              <a:xfrm>
                <a:off x="3635280" y="1916280"/>
                <a:ext cx="37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2" name="Rectangle 14"/>
          <p:cNvSpPr/>
          <p:nvPr/>
        </p:nvSpPr>
        <p:spPr>
          <a:xfrm>
            <a:off x="3999600" y="205992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чены и просмотрены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15"/>
              <p:cNvSpPr txBox="1"/>
              <p:nvPr/>
            </p:nvSpPr>
            <p:spPr>
              <a:xfrm>
                <a:off x="7164360" y="1916280"/>
                <a:ext cx="37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5" name="Rectangle 17"/>
          <p:cNvSpPr/>
          <p:nvPr/>
        </p:nvSpPr>
        <p:spPr>
          <a:xfrm>
            <a:off x="7525800" y="20599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18"/>
              <p:cNvSpPr txBox="1"/>
              <p:nvPr/>
            </p:nvSpPr>
            <p:spPr>
              <a:xfrm>
                <a:off x="7812000" y="1916280"/>
                <a:ext cx="37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8" name="Rectangle 21"/>
          <p:cNvSpPr/>
          <p:nvPr/>
        </p:nvSpPr>
        <p:spPr>
          <a:xfrm>
            <a:off x="975600" y="242028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чены, но не просмотрены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2"/>
          <p:cNvSpPr/>
          <p:nvPr/>
        </p:nvSpPr>
        <p:spPr>
          <a:xfrm>
            <a:off x="973440" y="278064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в для просмо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23"/>
              <p:cNvSpPr txBox="1"/>
              <p:nvPr/>
            </p:nvSpPr>
            <p:spPr>
              <a:xfrm>
                <a:off x="3203640" y="2708280"/>
                <a:ext cx="3128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1" name="Rectangle 25"/>
          <p:cNvSpPr/>
          <p:nvPr/>
        </p:nvSpPr>
        <p:spPr>
          <a:xfrm>
            <a:off x="3419640" y="2780640"/>
            <a:ext cx="58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вторя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аг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йдем  к  следующим пометк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6"/>
              <p:cNvSpPr txBox="1"/>
              <p:nvPr/>
            </p:nvSpPr>
            <p:spPr>
              <a:xfrm>
                <a:off x="1042920" y="3068640"/>
                <a:ext cx="368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4" name="Rectangle 28"/>
          <p:cNvSpPr/>
          <p:nvPr/>
        </p:nvSpPr>
        <p:spPr>
          <a:xfrm>
            <a:off x="1332000" y="3141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ой  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9"/>
              <p:cNvSpPr txBox="1"/>
              <p:nvPr/>
            </p:nvSpPr>
            <p:spPr>
              <a:xfrm>
                <a:off x="3276720" y="3141720"/>
                <a:ext cx="2950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Rectangle 31"/>
          <p:cNvSpPr/>
          <p:nvPr/>
        </p:nvSpPr>
        <p:spPr>
          <a:xfrm>
            <a:off x="6301440" y="3141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32"/>
              <p:cNvSpPr txBox="1"/>
              <p:nvPr/>
            </p:nvSpPr>
            <p:spPr>
              <a:xfrm>
                <a:off x="6877080" y="3068640"/>
                <a:ext cx="3128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0" name="Rectangle 34"/>
          <p:cNvSpPr/>
          <p:nvPr/>
        </p:nvSpPr>
        <p:spPr>
          <a:xfrm>
            <a:off x="7229880" y="314100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ткой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5"/>
              <p:cNvSpPr txBox="1"/>
              <p:nvPr/>
            </p:nvSpPr>
            <p:spPr>
              <a:xfrm>
                <a:off x="1116000" y="3500280"/>
                <a:ext cx="3384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Rectangle 37"/>
          <p:cNvSpPr/>
          <p:nvPr/>
        </p:nvSpPr>
        <p:spPr>
          <a:xfrm>
            <a:off x="1046160" y="400464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я для просмо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38"/>
              <p:cNvSpPr txBox="1"/>
              <p:nvPr/>
            </p:nvSpPr>
            <p:spPr>
              <a:xfrm>
                <a:off x="3348000" y="3933720"/>
                <a:ext cx="3110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6" name="Rectangle 40"/>
          <p:cNvSpPr/>
          <p:nvPr/>
        </p:nvSpPr>
        <p:spPr>
          <a:xfrm>
            <a:off x="3563280" y="400464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,  что  никаких  пометок расставить нельз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1"/>
          <p:cNvSpPr/>
          <p:nvPr/>
        </p:nvSpPr>
        <p:spPr>
          <a:xfrm>
            <a:off x="973440" y="443628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им просмотр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42"/>
              <p:cNvSpPr txBox="1"/>
              <p:nvPr/>
            </p:nvSpPr>
            <p:spPr>
              <a:xfrm>
                <a:off x="3635280" y="433404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Rectangle 44"/>
          <p:cNvSpPr/>
          <p:nvPr/>
        </p:nvSpPr>
        <p:spPr>
          <a:xfrm>
            <a:off x="4139280" y="443628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 следующие пото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45"/>
              <p:cNvSpPr txBox="1"/>
              <p:nvPr/>
            </p:nvSpPr>
            <p:spPr>
              <a:xfrm>
                <a:off x="1258920" y="5013360"/>
                <a:ext cx="410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Rectangle 4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7"/>
              <p:cNvSpPr txBox="1"/>
              <p:nvPr/>
            </p:nvSpPr>
            <p:spPr>
              <a:xfrm>
                <a:off x="1258920" y="5516640"/>
                <a:ext cx="4033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49"/>
              <p:cNvSpPr txBox="1"/>
              <p:nvPr/>
            </p:nvSpPr>
            <p:spPr>
              <a:xfrm>
                <a:off x="1258920" y="6165720"/>
                <a:ext cx="4033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966240" y="173880"/>
            <a:ext cx="44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м  к шагам 4 и 5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5"/>
              <p:cNvSpPr txBox="1"/>
              <p:nvPr/>
            </p:nvSpPr>
            <p:spPr>
              <a:xfrm>
                <a:off x="1042920" y="463680"/>
                <a:ext cx="1008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7"/>
              <p:cNvSpPr txBox="1"/>
              <p:nvPr/>
            </p:nvSpPr>
            <p:spPr>
              <a:xfrm>
                <a:off x="1042920" y="896760"/>
                <a:ext cx="1008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9"/>
              <p:cNvSpPr txBox="1"/>
              <p:nvPr/>
            </p:nvSpPr>
            <p:spPr>
              <a:xfrm>
                <a:off x="1042920" y="1319040"/>
                <a:ext cx="100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1"/>
              <p:cNvSpPr txBox="1"/>
              <p:nvPr/>
            </p:nvSpPr>
            <p:spPr>
              <a:xfrm>
                <a:off x="1042920" y="1773360"/>
                <a:ext cx="1008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Rectangle 1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13"/>
              <p:cNvSpPr txBox="1"/>
              <p:nvPr/>
            </p:nvSpPr>
            <p:spPr>
              <a:xfrm>
                <a:off x="1042920" y="2263680"/>
                <a:ext cx="1008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Rectangle 1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15"/>
              <p:cNvSpPr txBox="1"/>
              <p:nvPr/>
            </p:nvSpPr>
            <p:spPr>
              <a:xfrm>
                <a:off x="2268360" y="528480"/>
                <a:ext cx="1582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7,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Rectangle 1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17"/>
              <p:cNvSpPr txBox="1"/>
              <p:nvPr/>
            </p:nvSpPr>
            <p:spPr>
              <a:xfrm>
                <a:off x="2268360" y="981000"/>
                <a:ext cx="86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5,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Rectangle 20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19"/>
              <p:cNvSpPr txBox="1"/>
              <p:nvPr/>
            </p:nvSpPr>
            <p:spPr>
              <a:xfrm>
                <a:off x="2268360" y="1413000"/>
                <a:ext cx="863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,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Rectangle 2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21"/>
              <p:cNvSpPr txBox="1"/>
              <p:nvPr/>
            </p:nvSpPr>
            <p:spPr>
              <a:xfrm>
                <a:off x="2268360" y="1846440"/>
                <a:ext cx="8636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,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Rectangle 2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23"/>
              <p:cNvSpPr txBox="1"/>
              <p:nvPr/>
            </p:nvSpPr>
            <p:spPr>
              <a:xfrm>
                <a:off x="2268360" y="2349360"/>
                <a:ext cx="863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Rectangle 25"/>
          <p:cNvSpPr/>
          <p:nvPr/>
        </p:nvSpPr>
        <p:spPr>
          <a:xfrm>
            <a:off x="971280" y="2851920"/>
            <a:ext cx="70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 следующие пометки вершин до их стирания на шаге 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6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6134040" cy="223848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2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7"/>
              <p:cNvSpPr txBox="1"/>
              <p:nvPr/>
            </p:nvSpPr>
            <p:spPr>
              <a:xfrm>
                <a:off x="1042920" y="5364000"/>
                <a:ext cx="792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Rectangle 29"/>
          <p:cNvSpPr/>
          <p:nvPr/>
        </p:nvSpPr>
        <p:spPr>
          <a:xfrm>
            <a:off x="1982160" y="5373000"/>
            <a:ext cx="23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ыщенная д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0"/>
          <p:cNvSpPr/>
          <p:nvPr/>
        </p:nvSpPr>
        <p:spPr>
          <a:xfrm>
            <a:off x="977040" y="6092280"/>
            <a:ext cx="81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43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раем пометки и возвращаемся к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агу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второго прохода ,получ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5905800" cy="1257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3114720" cy="3333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6"/>
              <p:cNvSpPr txBox="1"/>
              <p:nvPr/>
            </p:nvSpPr>
            <p:spPr>
              <a:xfrm>
                <a:off x="1258920" y="1557360"/>
                <a:ext cx="3887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Rectangle 9"/>
          <p:cNvSpPr/>
          <p:nvPr/>
        </p:nvSpPr>
        <p:spPr>
          <a:xfrm>
            <a:off x="1476360" y="20599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чена и просмотр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8"/>
              <p:cNvSpPr txBox="1"/>
              <p:nvPr/>
            </p:nvSpPr>
            <p:spPr>
              <a:xfrm>
                <a:off x="1258920" y="1989000"/>
                <a:ext cx="368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0" name="Picture 10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5859720" cy="99072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11"/>
              <p:cNvSpPr txBox="1"/>
              <p:nvPr/>
            </p:nvSpPr>
            <p:spPr>
              <a:xfrm>
                <a:off x="1042920" y="3357720"/>
                <a:ext cx="368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Rectangle 13"/>
          <p:cNvSpPr/>
          <p:nvPr/>
        </p:nvSpPr>
        <p:spPr>
          <a:xfrm>
            <a:off x="1407240" y="349956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а и просмотр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14"/>
              <p:cNvSpPr txBox="1"/>
              <p:nvPr/>
            </p:nvSpPr>
            <p:spPr>
              <a:xfrm>
                <a:off x="1042920" y="3789360"/>
                <a:ext cx="368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6" name="Rectangle 16"/>
          <p:cNvSpPr/>
          <p:nvPr/>
        </p:nvSpPr>
        <p:spPr>
          <a:xfrm>
            <a:off x="1406880" y="385992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же помечена и просмотр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7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6095880" cy="13525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"/>
          <p:cNvPicPr/>
          <p:nvPr/>
        </p:nvPicPr>
        <p:blipFill>
          <a:blip r:embed="rId5"/>
          <a:stretch/>
        </p:blipFill>
        <p:spPr>
          <a:xfrm>
            <a:off x="2124000" y="5877000"/>
            <a:ext cx="52484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"/>
          <p:cNvPicPr/>
          <p:nvPr/>
        </p:nvPicPr>
        <p:blipFill>
          <a:blip r:embed="rId1"/>
          <a:stretch/>
        </p:blipFill>
        <p:spPr>
          <a:xfrm>
            <a:off x="1547640" y="0"/>
            <a:ext cx="5191200" cy="219060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1404360" y="2204280"/>
            <a:ext cx="53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остальные значения потока не измени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1040760" y="256464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вид потока и пометки вершин до стирания имеют ви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8" descr=""/>
          <p:cNvPicPr/>
          <p:nvPr/>
        </p:nvPicPr>
        <p:blipFill>
          <a:blip r:embed="rId2"/>
          <a:stretch/>
        </p:blipFill>
        <p:spPr>
          <a:xfrm>
            <a:off x="1187280" y="3141720"/>
            <a:ext cx="6191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3279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62388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4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961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697120" y="-3168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0007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дачи 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MAX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т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4"/>
          <p:cNvSpPr/>
          <p:nvPr/>
        </p:nvSpPr>
        <p:spPr>
          <a:xfrm>
            <a:off x="1143000" y="57168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отрим граф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=(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) с пропускными способностями дуг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источником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и сток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 X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Множество чисел ,определенных на дугах ( , называется потоками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1"/>
          <a:stretch/>
        </p:blipFill>
        <p:spPr>
          <a:xfrm>
            <a:off x="4786200" y="1643040"/>
            <a:ext cx="4210200" cy="13906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16"/>
          <p:cNvSpPr/>
          <p:nvPr/>
        </p:nvSpPr>
        <p:spPr>
          <a:xfrm>
            <a:off x="699480" y="2143080"/>
            <a:ext cx="43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угах, если выполняется 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2"/>
              <p:cNvSpPr txBox="1"/>
              <p:nvPr/>
            </p:nvSpPr>
            <p:spPr>
              <a:xfrm>
                <a:off x="1143000" y="3000240"/>
                <a:ext cx="3000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qij</m:t>
                    </m:r>
                    <m:r>
                      <m:t xml:space="preserve">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1" name="Picture 14" descr=""/>
          <p:cNvPicPr/>
          <p:nvPr/>
        </p:nvPicPr>
        <p:blipFill>
          <a:blip r:embed="rId2"/>
          <a:stretch/>
        </p:blipFill>
        <p:spPr>
          <a:xfrm>
            <a:off x="0" y="3643200"/>
            <a:ext cx="9096480" cy="17622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20"/>
          <p:cNvSpPr/>
          <p:nvPr/>
        </p:nvSpPr>
        <p:spPr>
          <a:xfrm>
            <a:off x="7333920" y="542916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кси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орема  Форда-Фалкерсона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1071720" y="50004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(о максимальном потоке и максимальном разрез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4413600" y="138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071720" y="928800"/>
            <a:ext cx="8072280" cy="128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2"/>
          <a:stretch/>
        </p:blipFill>
        <p:spPr>
          <a:xfrm>
            <a:off x="1071720" y="2214720"/>
            <a:ext cx="8072280" cy="12952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9"/>
          <p:cNvSpPr/>
          <p:nvPr/>
        </p:nvSpPr>
        <p:spPr>
          <a:xfrm>
            <a:off x="812520" y="350028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3"/>
          <a:stretch/>
        </p:blipFill>
        <p:spPr>
          <a:xfrm>
            <a:off x="1000080" y="4071960"/>
            <a:ext cx="81439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000080" y="214200"/>
            <a:ext cx="8143920" cy="24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1071720" y="2571840"/>
            <a:ext cx="8072280" cy="1380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3"/>
          <a:stretch/>
        </p:blipFill>
        <p:spPr>
          <a:xfrm>
            <a:off x="1071720" y="4000680"/>
            <a:ext cx="80722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8072280" cy="2291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1071720" y="2643120"/>
            <a:ext cx="8072280" cy="1886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3"/>
          <a:stretch/>
        </p:blipFill>
        <p:spPr>
          <a:xfrm>
            <a:off x="1000080" y="4857840"/>
            <a:ext cx="81439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3"/>
          <p:cNvSpPr/>
          <p:nvPr/>
        </p:nvSpPr>
        <p:spPr>
          <a:xfrm>
            <a:off x="1000080" y="0"/>
            <a:ext cx="8143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лгоритм начинает работу с произвольного допустимого потока (можно взять и 0-й поток), затем стремится увеличить величину потока с помощью систематического поиска всех возможных  аугментальных   целей потока от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Поиск аугментальной  цели осуществляется с помощью  расставленных пометок в вершинах графа. Поэтому  указывают, вдоль каких дуг может быть  увеличен поток и на скольк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к только найдена одна из таких цепей, поток вдоль нее увеличивают до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чения, а пометки в вершинах  стираются и  вновь полученный поток используется  в качестве исходного при новой расстановке пометок. Алгоритм работу заканчивает и дает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поток, если нельзя найти   ни  1 аугментальную це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528120" y="29160"/>
            <a:ext cx="80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лгоритм расстановки пометок для задачи 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x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от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 пот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878400" y="35712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. Расстановка пом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8072280" cy="9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071720" y="3786120"/>
            <a:ext cx="8072280" cy="1085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1071720" y="1712880"/>
            <a:ext cx="8072280" cy="20113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"/>
          <p:cNvPicPr/>
          <p:nvPr/>
        </p:nvPicPr>
        <p:blipFill>
          <a:blip r:embed="rId4"/>
          <a:stretch/>
        </p:blipFill>
        <p:spPr>
          <a:xfrm>
            <a:off x="1076400" y="5000760"/>
            <a:ext cx="80676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8101080" cy="1476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8101080" cy="9288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8101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48:46Z</dcterms:created>
  <dc:creator>Admin</dc:creator>
  <dc:description/>
  <dc:language>en-US</dc:language>
  <cp:lastModifiedBy>Остроух</cp:lastModifiedBy>
  <dcterms:modified xsi:type="dcterms:W3CDTF">2011-09-07T09:00:13Z</dcterms:modified>
  <cp:revision>9</cp:revision>
  <dc:subject/>
  <dc:title>Потоки в сетях.</dc:title>
</cp:coreProperties>
</file>