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C63D-2D09-4558-B91B-0A4CA3E9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C10A-A1AD-4F13-A5D9-CF8AB13D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5E66-745E-4541-A24E-CD1CAC53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A3E8-5BAD-4A9E-A5B1-99C78D3A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B7B4-E541-4834-963E-ACC7D392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B7B5-A3C3-45F1-9B1D-B6A9A8D8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4582-02C8-4390-9B1B-A3FAB82E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356D-8FD2-4B6A-B468-406C3B17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71D0-3868-426A-A29C-71D55FF3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3EC1-5373-4877-94E7-F0B62E78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AAC9-A38E-498D-916D-3028B86B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247E-E79E-41B1-9A48-A85A29FC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A5AA-0302-4833-8F6D-D35A4656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923F-93E5-4A28-83C7-8225F22B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9E18-C06C-4874-A851-706FAD6C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621D-8220-41CA-8F68-4BB5F6F6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BE47-E032-44AB-B7F9-AD1CABD2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DC9AB-5865-4885-9AFD-39EA3778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231A5-2BD1-4C5A-8B6D-5D2A781E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63516-CDC8-4F42-AA75-DAC49943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5BA86-BD4C-4B73-A754-1BA0C92A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3C1EA-7E19-413A-97E9-A7F53DCF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B22F-9882-4C8F-A890-34DAB322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7B563-D391-4530-90F7-D0E89AC7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224FD-BC5F-45BD-A905-B812CC98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1201B-0A56-445C-A673-41D0DF4E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0D2D2-F062-43E1-9B64-CE8B0F0E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5FA57-563D-47AD-9F51-5811AE3E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D416A-A840-4FDD-92F5-6180DBCF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A6F1A-5AE4-45B3-AC58-0DB32F1F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08C12-DC0C-4EEA-9D3B-5358A787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0D61B-82CF-44C6-92C9-AA1D3196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FA364-F213-4E53-AF62-89292528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C364-642B-481F-BF70-0C5F9C64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58D5F-D242-4F2A-81A7-0E082D4B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0AB73-7491-4A31-99F1-6D0F2B78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1D5E9-82EB-411F-8BEE-E414A532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75104-9F0E-41E9-AE1C-88802753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0AFD1-3539-4222-8FBC-BAA88A58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EF84B-F486-40B3-9914-8D7FE840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6D531-6EAA-49E0-A146-CAB1DFAF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389C7-C7A0-4AD5-9982-ADCC8860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C5835-F81A-43A2-BAEA-32E4939A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DEA3F-E779-4082-AEF2-EEE2392D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0EE3-7B92-4FCD-AB91-54041A0F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43B11-7270-4EBC-8EB1-77DAF982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ED4F1-85FC-4C55-96FB-50C1D2E7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01D0C-136D-436C-A907-582F1EA9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3B229-4ED3-43F1-9228-CC3848CA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5A012-6CC7-4DF0-BE3A-CE68A220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FA4CF-2511-4E2E-8FF7-109F695F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8AD1B-1085-4F9F-9575-C8257BAE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ED34D-384C-4C12-91ED-2BEAD2B3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A39B0-630A-430D-9674-CD4529BC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F8786-8C6D-4380-9080-A2DCB1C4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79BC-71C6-4DD4-A322-1DD0A88E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982EF-87F9-494F-B118-14848A2E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6AF8E-5EAB-43DE-8305-263B9ABD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BF674-B500-4207-808E-D8191A69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D1E54-BE36-49AD-8453-7DFB2105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481FF-E8FF-46A7-8DE7-5F79F5CE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D090C-479C-45FF-8B9B-2BA53721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2A5D8-6520-4DB2-A67E-995E3FC3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B00FB-D4B5-4A31-8027-7E348D56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347D2-6E1A-4DB0-9903-24E4DEA9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DD983-D576-4528-955D-BA78DF4D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0E45-4AF4-4BC2-90AB-92945C75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07455-6FE7-4BF5-A3D1-AE809F31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1E884-8C77-4FB4-9460-FF17927F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EB617-6799-4B7F-A0A8-4329714B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F2928-FE42-4AF4-A530-65765395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1F6A6-0CDC-4D8A-AF1F-A550597D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320C9-3F38-4B33-8A9F-1BC97695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C341D-F6CA-43B9-A2EF-5C93D393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25D4C-2B5A-4FDB-9A14-7EFAC206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876A9-549E-4ADF-81C3-69A0E76B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2B3AA-9845-4E55-9BE7-CB8427E1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C4D1-822D-44A0-9354-33B8FB29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281B0-D19B-4E45-AB40-C384021E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CCCD7-4770-4B63-9E4B-D250C1A5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B97AA-86EF-44A6-A8EA-5312081E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66F08-80CD-4681-B46D-F1B2D624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CED28-3A9B-45CF-AAB7-B1DF77CD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F349-C79E-470F-8DD2-064A97C6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0EE1-2BC3-4F28-87D1-5971A44CED9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2FF1-024D-4E3F-BECF-7EA99A73474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94B1-318D-406D-AB62-3EC6DA4E37F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1BA8-03D9-451D-BA3D-B7581AFA4FA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B008-A458-4729-AFC6-961D7DD920E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5F30-895D-497B-BDA8-070A6282501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6BA8-7051-436E-88F6-DD5CE726100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85560" y="1428840"/>
            <a:ext cx="7643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Логическое программирование.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Заголовок 1"/>
          <p:cNvSpPr/>
          <p:nvPr/>
        </p:nvSpPr>
        <p:spPr>
          <a:xfrm>
            <a:off x="2500200" y="2786040"/>
            <a:ext cx="392904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orbel"/>
              </a:rPr>
              <a:t>Языки, свойства.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Заголовок 1"/>
          <p:cNvSpPr/>
          <p:nvPr/>
        </p:nvSpPr>
        <p:spPr>
          <a:xfrm>
            <a:off x="2500200" y="4143240"/>
            <a:ext cx="707256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orbel"/>
              </a:rPr>
              <a:t>Деревья и их свойства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"/>
          <p:cNvSpPr/>
          <p:nvPr/>
        </p:nvSpPr>
        <p:spPr>
          <a:xfrm>
            <a:off x="928800" y="-61200"/>
            <a:ext cx="8215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Два помеченных граф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φ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) и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φ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) назовем изоморфными, или существует изоморфизм межд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сохраняющий распределение меток в этих графа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642960" y="121608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Пример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1143000" y="1643040"/>
            <a:ext cx="5324400" cy="261936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4"/>
          <p:cNvSpPr/>
          <p:nvPr/>
        </p:nvSpPr>
        <p:spPr>
          <a:xfrm>
            <a:off x="785880" y="4143600"/>
            <a:ext cx="807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Общее число различных распределений  меток 3 * 4 = 12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571680" y="45723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Число всех неизоморфных   деревьев с 4 – мя вершинами равно 16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1000080" y="48600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Теорема 3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эли 1889) существует ровн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n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различных помеченных деревьев с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вершинами (без доказательств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1143000" y="5805000"/>
            <a:ext cx="80010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Следстви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Число остовных деревьев 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равн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n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– полный граф с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вершинами)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00120" y="285840"/>
            <a:ext cx="86486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Графы и орграфы используются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Rectangle 1"/>
          <p:cNvSpPr/>
          <p:nvPr/>
        </p:nvSpPr>
        <p:spPr>
          <a:xfrm>
            <a:off x="1000080" y="796680"/>
            <a:ext cx="7929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У рыночных отношений двудольные графы, представляющие собой различные промышленные предприятия и рынки, на которые поступают их товары; игры – вершина различные стадии игры, а дуги – возможные ходы; электрические цепи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;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химические соединения; головоломки; изучение и построение печатных схем; задачи теории расписания (последовательность работы станков); математические потоки в транспортных сетя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Заголовок 1"/>
          <p:cNvSpPr/>
          <p:nvPr/>
        </p:nvSpPr>
        <p:spPr>
          <a:xfrm>
            <a:off x="1143000" y="3643200"/>
            <a:ext cx="7497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Задача о соединении городов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Rectangle 1"/>
          <p:cNvSpPr/>
          <p:nvPr/>
        </p:nvSpPr>
        <p:spPr>
          <a:xfrm>
            <a:off x="1000080" y="421920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Нужно построить сеть железных дорог, причем, пассажир из любого города может проехать в любой другой. Количество рельсов должно быть минимальны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1071720" y="557424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Граф, вершины которого соответствует городам, а ребра – соединяющие их, железные дороги, должен быть дерев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28480" y="213840"/>
            <a:ext cx="7497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Задача о соединении городов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1071720" y="720720"/>
            <a:ext cx="807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Следовательно, нужно найти алгоритм, определяющий из возможных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n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соединяющих эти города, требуется наименьшее количество рельсов, и известны расстояния между каждой парой городов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1" name="Picture 31" descr=""/>
          <p:cNvPicPr/>
          <p:nvPr/>
        </p:nvPicPr>
        <p:blipFill>
          <a:blip r:embed="rId1"/>
          <a:stretch/>
        </p:blipFill>
        <p:spPr>
          <a:xfrm>
            <a:off x="1994040" y="2500200"/>
            <a:ext cx="620208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"/>
          <p:cNvSpPr/>
          <p:nvPr/>
        </p:nvSpPr>
        <p:spPr>
          <a:xfrm>
            <a:off x="1000080" y="6840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Лесом называется граф,  не содержащий циклов,  связанный  лес называется деревом. Например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1285920" y="1143000"/>
            <a:ext cx="7143840" cy="142884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3"/>
          <p:cNvSpPr/>
          <p:nvPr/>
        </p:nvSpPr>
        <p:spPr>
          <a:xfrm>
            <a:off x="928800" y="264456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Деревья и леса – простые граф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1000080" y="33598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Теорема 1. Пусть граф Т имее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вершин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Тогда следующие утверждения эквивалентны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642960" y="4191840"/>
            <a:ext cx="8501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1)Т является деревом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2)Т не содержит циклов и имее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-1 ребер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3)Т связен и имее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-1 ребер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4)Т связен и каждое его ребро является мост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5)Любые 2 вершины Т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соединены ребром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6)Т не содержит циклов, но добавляя к нему любое ино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ребро, мы получим ровно 1 цик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1000080" y="144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1000080" y="581400"/>
            <a:ext cx="81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Ес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=1, утверждение очевидно. Пу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≥2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1) -&gt;2) По определению Т не содержит циклов; тогда удаление любого ребра разбивает Т на 2 графа, каждый из которых – дерево. По индуктивному предложению число ребер в каждом из этих деревьев на единицу меньше числа вершин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642960" y="2914920"/>
            <a:ext cx="850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Отсюда получаем, что полное число ребер графа Т равно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n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-1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1000080" y="3436560"/>
            <a:ext cx="814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Из 2) -&gt;3) Если Т несвязен, то каждая  из его компонент - связанный граф без циклов, число вершин в каждой из его компонент на 1 больше, чем  ребер. Тогда полное число вершин Т больше полного числа его ребер по крайней мере на 2, а это противоречит тому, что Т имее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-1 ребр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928800" y="556416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3) -&gt;4) удаление любого ребра приводит к графу с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вершинами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-2 ребрами, который не может быть связен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"/>
          <p:cNvSpPr/>
          <p:nvPr/>
        </p:nvSpPr>
        <p:spPr>
          <a:xfrm>
            <a:off x="928800" y="7560"/>
            <a:ext cx="82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4) -&gt;5).  Так как Т связен, то каждая пара его вершин соединена по крайней мере одной простой цепью. Если же данная пара его вершин соединена двумя простыми цепями, то они замыкаются в цикл, а это противоречит тому, что каждое ребро в Т является мост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1000080" y="207396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5) -&gt;6). Если Т содержит цикл, то любые 2 вершины этого цикла соединены, по крайней мере, двумя прямыми  цепя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1000080" y="307620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Добавим теперь к графу Т какое – то ребр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; тогда, мы получим цикл, поскольку инцидентные ребр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вершины уже соединены в Т простой цепью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928800" y="442476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При этом получим только 1 цик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1071720" y="5078520"/>
            <a:ext cx="807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6) -&gt;1). Пусть Т несвязен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тогда добавление  любого ребра,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соединяющего вершину одной компоненты с вершиной другой компоненты, не приводит к образованию цикл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"/>
          <p:cNvSpPr/>
          <p:nvPr/>
        </p:nvSpPr>
        <p:spPr>
          <a:xfrm>
            <a:off x="1000080" y="-4068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Следствие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1000080" y="64512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Пу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– лес с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вершинами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компонентами; тогд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имее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ребер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Rectangle 1"/>
          <p:cNvSpPr/>
          <p:nvPr/>
        </p:nvSpPr>
        <p:spPr>
          <a:xfrm>
            <a:off x="1000080" y="1727280"/>
            <a:ext cx="81439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Доказательство: Применим к каждой компонент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G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предложения 2) теоремы 1. Сумма степеней всех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вершин дерева равна удвоенному числу его ребер 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– 2;  отсюда следует, что пр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≥2 дерево, имеющи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вершин, всегда содержит не менее 2-х висячих вершин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1000080" y="3938400"/>
            <a:ext cx="8143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В связном граф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G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удаление одного ребра, принадлежащего некоторому выбранному циклу, не нарушает связности оставшегося графа. Применим эту процедуру к одному из оставшихся циклов, и так до тех пор, пока не останется ни одного цикла. В результате получим дерево, связывающее все вершины граф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; - остовное дерево (остов, каркас) граф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8"/>
          <p:cNvSpPr/>
          <p:nvPr/>
        </p:nvSpPr>
        <p:spPr>
          <a:xfrm>
            <a:off x="1081440" y="185040"/>
            <a:ext cx="157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85" descr="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22194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86"/>
          <p:cNvSpPr/>
          <p:nvPr/>
        </p:nvSpPr>
        <p:spPr>
          <a:xfrm>
            <a:off x="928800" y="3059280"/>
            <a:ext cx="82152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В общем случа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G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– произвольный граф с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вершинами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m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ребрами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компонентами. Удаляя ребра в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, получим в результате граф, называемый остовным лесом. Число удаленных в этой процедуре ребер называется циклическим рангом (или цикломатическим числом) граф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и обозначаются через γ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). Видим, что γ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)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. Итак,  циклический ранг дает меру связности графа: циклический ранг дерева равен нулю, а циклический ранг циклического графа равен единице.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Коциклически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ранг (или ранг разреза) граф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– число ребер в его остовном лесе;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коциклически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ранг обозначается через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) и равен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"/>
          <p:cNvSpPr/>
          <p:nvPr/>
        </p:nvSpPr>
        <p:spPr>
          <a:xfrm>
            <a:off x="1000080" y="1450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Дополнением остовного лес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граф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является граф, полученный и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удалением  ребер 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1000080" y="107604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Теорема 2.  Если Т остовной лес граф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то 1) всякий разрез 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имеет общее ребро с Т; 2) каждый цикл 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имеет общее ребро с дополнением 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1143000" y="228744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Доказательство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1000080" y="2868480"/>
            <a:ext cx="81439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1) Пусть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*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- разрез граф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, удаление которого разбивает одну из компонент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G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на 2 подграф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H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и К (так как при удалении ребер, принадлежащих разрезу, остается граф имеющий ровно 2 компоненты. Если имеем разрез из одного ребр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L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, т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L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– мост или перешеек).  Поскольку Т – о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овной лес, в нем должно содержаться ребро, соединяющее вершину из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H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с вершиной из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;это и есть требуемое ребр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Rectangle 1"/>
          <p:cNvSpPr/>
          <p:nvPr/>
        </p:nvSpPr>
        <p:spPr>
          <a:xfrm>
            <a:off x="1000080" y="5575680"/>
            <a:ext cx="814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2)Пусть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– цикл в граф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, не имеющий ни одного общего ребра с дополнением Т, тогд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C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содержится в Т, что невозможн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0" y="144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Фундаментальные система циклов, ассоциируемая с 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1000080" y="938520"/>
            <a:ext cx="81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Если добавить к Т любое, не содержащееся в нем ребро и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то по 6) теоремы 1 получим единственный цикл; множество всех циклов, полученных тем же способом (путем добавления по отдельности каждого ребра и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не содержащегося в Т), называется фундаментальной системой циклов, ассоциируемой с 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785880" y="33588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Число циклов равно циклическому рангу граф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928800" y="378756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Пример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Picture 6" descr=""/>
          <p:cNvPicPr/>
          <p:nvPr/>
        </p:nvPicPr>
        <p:blipFill>
          <a:blip r:embed="rId1"/>
          <a:stretch/>
        </p:blipFill>
        <p:spPr>
          <a:xfrm>
            <a:off x="0" y="4357800"/>
            <a:ext cx="9144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7968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22"/>
          <p:cNvSpPr/>
          <p:nvPr/>
        </p:nvSpPr>
        <p:spPr>
          <a:xfrm>
            <a:off x="1000080" y="2307240"/>
            <a:ext cx="81439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По 4) теории 1 удаление любого ребра из Т разбивает множество вершин дерева Т на 2 непересекающихся компонент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V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V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2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Множество всех ребер граф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, каждое их которых соединяет вершину из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V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с вершиной из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V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, является разрезом граф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. Множество всех разрезов  назовем фундаментальной системой  разрезов, ассоциируемой с Т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Rectangle 23"/>
          <p:cNvSpPr/>
          <p:nvPr/>
        </p:nvSpPr>
        <p:spPr>
          <a:xfrm>
            <a:off x="1000080" y="4468680"/>
            <a:ext cx="814392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Разрезы должны быть различны и их число равно коциклическому рангу граф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. Имеем, фундаментальная система разрезов: {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l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l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}, {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l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l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l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7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l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}, {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l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l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6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l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7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l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},{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l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l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6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,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}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Rectangle 24"/>
          <p:cNvSpPr/>
          <p:nvPr/>
        </p:nvSpPr>
        <p:spPr>
          <a:xfrm>
            <a:off x="1000080" y="5724360"/>
            <a:ext cx="814392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Помеченным графом называется пара {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φ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}, гд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– граф,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φ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– распределение меток в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. Числа 1, …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называются метками графа и обозначает вершины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через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υ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1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υ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6:40:30Z</dcterms:created>
  <dc:creator>Admin</dc:creator>
  <dc:description/>
  <dc:language>en-US</dc:language>
  <cp:lastModifiedBy>Admin</cp:lastModifiedBy>
  <dcterms:modified xsi:type="dcterms:W3CDTF">2010-04-06T18:47:51Z</dcterms:modified>
  <cp:revision>11</cp:revision>
  <dc:subject/>
  <dc:title>Логическое программирование.  </dc:title>
</cp:coreProperties>
</file>