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015-8C72-4268-ADB9-9FF7BA8B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507-F658-4F61-A9B9-060A239C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157-F9A0-4EC0-9C60-0838F6C9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AAC-6DFE-4A26-84A3-4450BF6B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B5D3-8FB6-4A53-A241-D0FAFA41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5A6C-AC72-40CF-B628-9ED330D6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127E-5548-4DB7-904A-6E70D922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3862-4EE0-4D9C-9C81-B014091C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FAB2-1AD8-4C49-9B31-9E469CFA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3E62-BFAE-4AE0-BBC1-5160BF6E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614B-B98C-4243-B6C9-DCB0AFE5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37C-4EDB-4DD9-9249-3A00A74E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F5FF-4C41-4349-A65A-8A215A80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7260-0049-4609-BF2D-5FBFFEE0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DA34-BD1A-4B64-B940-372B7B88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A9C8-4C05-4462-8EED-E1F0B916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6D96-7E9C-4909-BF35-4DAC33E9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CE2-97B0-428A-867D-834D54F4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B61-EA85-41EF-BC96-BC32649D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B0D-AEAD-4479-9CAB-D44CF6EA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D52-EAC5-4B0A-A80F-76C9573F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B37C-17F2-43C1-AE2A-4A70499A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01E-90F2-4752-AC7E-26594053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4AC-A128-4AE2-8120-678E4DD4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C090-EE19-4C64-ABCF-E9AAE2039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E1FD-63F7-453E-BBAB-C3B03E4E6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вносильные Формулы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086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е формул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авносильны, если они принимают одинаковые логические значения на любом наборе входящих в формулы элементарных высказыв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56000" y="4581360"/>
                <a:ext cx="230508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≡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724360" y="4724280"/>
                <a:ext cx="244800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=</m:t>
                        </m:r>
                      </m:lim>
                    </m:limUpp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3360" y="141264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ывается тождественно истинным высказыванием или тофтологией, если она принимает значение 1 при любом наборе входящих переме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1125360"/>
            <a:ext cx="11872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5640" y="2276640"/>
            <a:ext cx="79423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азывается тождественно ложной, если она принимает значение 0, при всех значениях входящих в её перем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закон противоречи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закон исключённого 3-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кон снятия двойного отриц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оны погло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Основные равносильности алгебры логик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71640" y="1773360"/>
                <a:ext cx="136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  <m:r>
                      <m:t xml:space="preserve">∨</m:t>
                    </m:r>
                    <m:r>
                      <m:t xml:space="preserve">x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71640" y="1413000"/>
                <a:ext cx="15112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  <m:r>
                      <m:t xml:space="preserve">∧</m:t>
                    </m:r>
                    <m:r>
                      <m:t xml:space="preserve">x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71640" y="2276640"/>
                <a:ext cx="14396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  <m:r>
                      <m:t xml:space="preserve">∧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71640" y="2781360"/>
                <a:ext cx="14396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  <m:r>
                      <m:t xml:space="preserve">∨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971640" y="3213000"/>
                <a:ext cx="136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  <m:r>
                      <m:t xml:space="preserve">∧</m:t>
                    </m:r>
                    <m:r>
                      <m:t xml:space="preserve">0</m:t>
                    </m:r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971640" y="3500280"/>
                <a:ext cx="1439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  <m:r>
                      <m:t xml:space="preserve">∨</m:t>
                    </m:r>
                    <m:r>
                      <m:t xml:space="preserve">0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971640" y="3933720"/>
                <a:ext cx="136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  <m:r>
                      <m:t xml:space="preserve">∧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71640" y="4437000"/>
                <a:ext cx="136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  <m:r>
                      <m:t xml:space="preserve">∨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71640" y="4941720"/>
                <a:ext cx="12254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ba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42920" y="5589720"/>
                <a:ext cx="2160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∨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16000" y="6021360"/>
                <a:ext cx="20890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62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Равносильности выражающие одни логические функции ч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/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з други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971640" y="1773360"/>
                <a:ext cx="4321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↔</m:t>
                    </m:r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71640" y="2349360"/>
                <a:ext cx="26654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00000" y="2781360"/>
                <a:ext cx="2519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∧</m:t>
                        </m:r>
                        <m:r>
                          <m:t xml:space="preserve">y</m:t>
                        </m:r>
                      </m:e>
                    </m:ba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∨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00000" y="3357720"/>
                <a:ext cx="21607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∨</m:t>
                        </m:r>
                        <m:r>
                          <m:t xml:space="preserve">y</m:t>
                        </m:r>
                      </m:e>
                    </m:ba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∧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900000" y="4005360"/>
                <a:ext cx="2016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∨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00000" y="4508640"/>
                <a:ext cx="21607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∧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Равносильности выражающие основные законы алгебры логик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76360" y="2565360"/>
                <a:ext cx="1449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  <m:r>
                      <m:t xml:space="preserve">∧</m:t>
                    </m:r>
                    <m:r>
                      <m:t xml:space="preserve">x</m:t>
                    </m:r>
                    <m:r>
                      <m:t xml:space="preserve">≡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476360" y="3068640"/>
                <a:ext cx="1449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  <m:r>
                      <m:t xml:space="preserve">∨</m:t>
                    </m:r>
                    <m:r>
                      <m:t xml:space="preserve">x</m:t>
                    </m:r>
                    <m:r>
                      <m:t xml:space="preserve">≡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47640" y="3573360"/>
                <a:ext cx="26434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476360" y="4076640"/>
                <a:ext cx="26431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∨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476360" y="4724280"/>
                <a:ext cx="30639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∨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504800" y="5262480"/>
                <a:ext cx="32515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лгебра логики обладает коммутативными и ассоциативными законами относительно операций конъюнкции и дизъюнкции и дистрибутивным законом конъюнкции относительно дизъюн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20:05:56Z</dcterms:created>
  <dc:creator>Chikist</dc:creator>
  <dc:description/>
  <dc:language>en-US</dc:language>
  <cp:lastModifiedBy>Евгений</cp:lastModifiedBy>
  <dcterms:modified xsi:type="dcterms:W3CDTF">2010-02-11T09:04:24Z</dcterms:modified>
  <cp:revision>3</cp:revision>
  <dc:subject/>
  <dc:title>Равносильные Формулы </dc:title>
</cp:coreProperties>
</file>