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04E-C75B-48D2-8FCD-0C490E55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C62-C7C5-491C-836D-4AA72D7D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FAA-241F-4400-A623-A82656AC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8C7-DEF6-4E71-B0F0-2FD2671B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E90-E96D-4C26-B098-8AEA45BE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19E-4578-4D64-920E-B55076AE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0EF-FB26-4321-8B6E-7784671B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D4A-8C5A-49F0-8FC5-43A69CDB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772-D87B-4AD1-9C74-520765DF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FEA-17D7-4327-8583-638F160A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E54-872A-40EE-85F4-7389814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771-2269-4936-AB5E-8442F24E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C71E-CC8C-4353-83F3-21146062E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252360" y="1628640"/>
            <a:ext cx="914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Элементы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математической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логики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2349360"/>
            <a:ext cx="835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Impact"/>
              </a:rPr>
              <a:t>формулы алгебры лог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505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Равносильные формулы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628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5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Arial"/>
              </a:rPr>
              <a:t>Две формулы А и В равносильны, если они принимают одинаковые логические значения на любом наборе входящих формулы элементарных высказываний.</a:t>
            </a:r>
            <a:endParaRPr b="0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9280" y="3933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А называется тождественно истинным высказыванием, если она принимает значение единицы при любом значении входящих переменных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88000" y="162828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А называется тождественно ложной, если принимает значение нуля, при всех значениях входящих в неё переменных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4436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1. А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≡В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  3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≡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36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36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40000" y="4653000"/>
                <a:ext cx="2133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∧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Основные равносильности алгебры логики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916360" y="162864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кон противореч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8.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кон исключенного третьего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9.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кон снятия двойного отрицан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10.а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коны поглощен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55640" y="1700280"/>
                <a:ext cx="155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78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26920" y="2205000"/>
                <a:ext cx="155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92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26920" y="2637000"/>
                <a:ext cx="1403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126828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26920" y="3141720"/>
                <a:ext cx="13096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12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826920" y="3645000"/>
                <a:ext cx="14576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25440" y="980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1457640" cy="452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348000" y="1557360"/>
                <a:ext cx="1397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348000" y="2060640"/>
                <a:ext cx="1349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48000" y="2637000"/>
                <a:ext cx="284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635280" y="2852640"/>
                <a:ext cx="2984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067280" y="2852640"/>
                <a:ext cx="27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720" y="4849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51280" y="3213000"/>
                <a:ext cx="2260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995640" y="4292640"/>
                <a:ext cx="2260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Bauhaus-Heavy"/>
              </a:rPr>
              <a:t>Равносильности выражающие одни логические функции через другие</a:t>
            </a:r>
            <a:r>
              <a:rPr b="1" lang="en-US" sz="3200" spc="-1" strike="noStrike">
                <a:solidFill>
                  <a:srgbClr val="6600cc"/>
                </a:solidFill>
                <a:latin typeface="Bauhaus-Heavy"/>
              </a:rPr>
              <a:t>	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00" y="2196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40000" y="1628640"/>
                <a:ext cx="4513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↔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2133720"/>
                <a:ext cx="2363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∨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40000" y="2708280"/>
                <a:ext cx="2201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</m:e>
                    </m:ba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∨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40000" y="3284640"/>
                <a:ext cx="2201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∨</m:t>
                        </m:r>
                        <m:r>
                          <m:t xml:space="preserve">y</m:t>
                        </m:r>
                      </m:e>
                    </m:ba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40000" y="3860640"/>
                <a:ext cx="2054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∨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800" y="401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340000" y="4437000"/>
                <a:ext cx="2054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∧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Равносильности выражающие основные законы алгебры логики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1.                               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коны коммутативност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3.                             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кон ассоциативности конъюнкци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4.                             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кон ассоциативности дизъюнкци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lvl="4" marL="1780920" indent="-281160">
              <a:spcBef>
                <a:spcPts val="451"/>
              </a:spcBef>
              <a:buClr>
                <a:srgbClr val="a5002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lvl="4" marL="1780920" indent="-281160">
              <a:buClr>
                <a:srgbClr val="a50021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472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Итак, алгебра-логика обладает коммутативными и ассоциативными законами относительно операции конъюнкции и дизъюнкции и дистрибутивным законом конъюнкции относительно дизъюнкции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0" y="1501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00000" y="1628640"/>
                <a:ext cx="24480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211608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00000" y="1989000"/>
                <a:ext cx="2486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160" y="251208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00000" y="2421000"/>
                <a:ext cx="3882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70560" y="3261600"/>
            <a:ext cx="2336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00000" y="2852640"/>
                <a:ext cx="3843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89440" y="3384360"/>
            <a:ext cx="223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00000" y="3357720"/>
                <a:ext cx="47293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46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00000" y="3789360"/>
                <a:ext cx="4729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800" y="4875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Логика высказываний</a:t>
            </a:r>
            <a:br>
              <a:rPr sz="4000"/>
            </a:b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Высказыван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Истинность высказыван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Операции над высказываниями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Дизъюнк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Конъюнк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Имплика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Эквивален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Штрих Шеффера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Штрих Лукасевича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КОНЪЮНКЦИЯ:</a:t>
            </a:r>
            <a:r>
              <a:rPr b="0" lang="en-US" sz="2800" spc="-1" strike="noStrike">
                <a:solidFill>
                  <a:srgbClr val="6600cc"/>
                </a:solidFill>
                <a:latin typeface="Bauhaus-Heavy"/>
              </a:rPr>
              <a:t> бинарное</a:t>
            </a:r>
            <a:br>
              <a:rPr sz="2800"/>
            </a:b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356000" y="1600200"/>
          <a:ext cx="4248360" cy="4437000"/>
        </p:xfrm>
        <a:graphic>
          <a:graphicData uri="http://schemas.openxmlformats.org/drawingml/2006/table">
            <a:tbl>
              <a:tblPr/>
              <a:tblGrid>
                <a:gridCol w="1416240"/>
                <a:gridCol w="1415880"/>
                <a:gridCol w="1416240"/>
              </a:tblGrid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0" lang="en-US" sz="8000" spc="-1" strike="noStrike" baseline="-25000">
                          <a:solidFill>
                            <a:srgbClr val="a50021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4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 txBox="1"/>
          <p:nvPr/>
        </p:nvSpPr>
        <p:spPr>
          <a:xfrm>
            <a:off x="468360" y="1628640"/>
            <a:ext cx="36100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0" lang="en-US" sz="8000" spc="-1" strike="noStrike" baseline="-25000">
                <a:solidFill>
                  <a:srgbClr val="a50021"/>
                </a:solidFill>
                <a:latin typeface="Arial"/>
              </a:rPr>
              <a:t>^</a:t>
            </a:r>
            <a:endParaRPr b="0" lang="en-US" sz="8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85000"/>
              </a:lnSpc>
              <a:spcBef>
                <a:spcPts val="799"/>
              </a:spcBef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a50021"/>
                </a:solidFill>
                <a:latin typeface="Arial"/>
              </a:rPr>
              <a:t>(логическое умножение, операция «и»)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ТАБЛИЦЫ </a:t>
            </a:r>
            <a:r>
              <a:rPr b="1" lang="ru-RU" sz="3200" spc="-1" strike="noStrike">
                <a:solidFill>
                  <a:srgbClr val="6600cc"/>
                </a:solidFill>
                <a:latin typeface="Bauhaus-Heavy"/>
              </a:rPr>
              <a:t>ИСТИННОСТИ</a:t>
            </a: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. СВОЙСТВА</a:t>
            </a:r>
            <a:br>
              <a:rPr sz="2400"/>
            </a:br>
            <a:r>
              <a:rPr b="1" lang="ru-RU" sz="2800" spc="-1" strike="noStrike">
                <a:solidFill>
                  <a:srgbClr val="6600cc"/>
                </a:solidFill>
                <a:latin typeface="Bauhaus-Heavy"/>
              </a:rPr>
              <a:t>ОТРИЦАНИЕ: унарное </a:t>
            </a:r>
            <a:br>
              <a:rPr sz="2800"/>
            </a:b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16280"/>
            <a:ext cx="4762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ысказывание это: любое предложение, утверждающее что-либо, при этом всегда можно сказать истинно оно или ложно, в данном месте в данное время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1-истина (и,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true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0-ложь (,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false)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ысказывание, получаемое из элементарных с помощью связок: не, и, или, если то, тогда и только тогда - называются сложными или составными.  Ни одно высказывание не может быть одновременно истинным или ложным.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3280" y="1600200"/>
            <a:ext cx="3961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имер: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x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x (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раг моего врага мой друг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Двойное отрицание -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96000" y="3938760"/>
          <a:ext cx="2890800" cy="22190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ДИЗЪЮНКЦИЯ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логическое сложение, операция «или»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600200"/>
          <a:ext cx="4038480" cy="45651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64240" y="4645080"/>
                <a:ext cx="204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ИМПЛИКАЦИЯ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Импликация двух высказываний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которое ложно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если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стина, а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ложно, и истина во всех остальных случаях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Эквиваленция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Эквиваленция двух высказываний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,это новое высказывание, это истина когда оба высказывания одновременно истина и одновременно ложь, и ложь в остальных других случаях)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↔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Штрих Шеффера: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ru-RU" sz="2500" spc="-1" strike="noStrike">
                <a:solidFill>
                  <a:srgbClr val="a50021"/>
                </a:solidFill>
                <a:latin typeface="Arial"/>
              </a:rPr>
              <a:t>/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ысказывание, которое ложно только тогда, когда оба высказывания истина)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Bauhaus-Heavy"/>
              </a:rPr>
              <a:t>Штрих Лукасевича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ение: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↓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высказывание, которое истина в одном случае, когда оба высказывания ложно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1600200"/>
          <a:ext cx="4038480" cy="44211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6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09:28:04Z</dcterms:created>
  <dc:creator>magic friend</dc:creator>
  <dc:description/>
  <dc:language>en-US</dc:language>
  <cp:lastModifiedBy>magic friend</cp:lastModifiedBy>
  <dcterms:modified xsi:type="dcterms:W3CDTF">2005-04-04T10:28:42Z</dcterms:modified>
  <cp:revision>10</cp:revision>
  <dc:subject/>
  <dc:title>ЭЛЕМЕНТЫ МАТЕМАТИЧЕСКОЙ ЛОГИКИ</dc:title>
</cp:coreProperties>
</file>