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C0CE-2293-400B-B63D-FB0983C843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58FB-11F4-4791-80BC-5064E7B8AA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6428-6312-4753-B7CF-F06F839553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8E32-B737-4E0B-878A-AD51FFE5DC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57B5-390D-4CFE-A6F1-98B329B421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CDEE-90B9-4360-B242-CDA35A016C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6DDC-B8DB-420D-9A10-B553FBB8E1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4017-AB2D-4B0E-86AD-F6BBCB873C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9F0B-BB6F-4346-8C07-5EA3619E98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E622-AFF6-4F87-94BC-FB843FCC12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5550-93DE-458F-A848-1B7FB1A8AD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009B-FD2E-4CBD-8618-1A70AD1AEC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7717-68CB-460C-8B81-42DF42FCFE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3425-B812-42CD-9CF4-026808C68A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88B4-2F1B-4283-8DFD-6416946C5E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F09D-89A7-4A5D-A5DE-4A3544867F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6AAF-36D2-47DA-83C2-9A3CBFE82A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4F71-7213-49A8-9056-56998ACA54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AA40-FEDA-4E97-8DED-FB1C17077F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96AD-1B05-4A7C-A846-E4CECE9563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0D81-0837-4835-BFE0-E0A141475A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FBD5-B375-4E2F-A270-335E6DF1BB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96BF-76EA-4656-80A0-6DAB57319C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9F7B-8920-475B-87B8-AF683C81C5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5B7D-4D31-4FE8-849B-26C3008169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4074-C882-4814-BDEF-CECC83817F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F7A6-86E2-4B53-A639-665AF2CA61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671E-EE39-4753-9BEC-646F802313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78D6-C966-4A2C-8D25-71466D0DEF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8AAB-E9AF-43B7-A201-4C2D2A81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589-9B39-4091-A167-E81F6CC0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A6F-444F-4F43-982C-4A11E0B4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5EE-4570-4D29-A31B-E44FFF86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E36D-CAF1-47C0-B9B9-20FA67B6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870E-84CE-4EBF-BEA6-589B5B5E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2D4B-3690-4C46-BFBB-79904517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ADE5-6D96-4518-9C00-C3DA9A95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9884-8DDE-4D19-AD86-890E7471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2523-CFC7-4649-B22D-8B61B136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A4FD-15C2-46E3-84FA-11FAB7A7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D48E-8A71-437D-8BA0-55F0A69D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0611-B6D0-49D6-BA92-A7CFEF9F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DF34-36C6-424D-9C9F-A2F35E97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64E2-E92E-438B-B3BA-0F287B35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7FDE-C088-416F-AF4C-903F3617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E97D-C5BD-4A54-B72E-BA53EC5C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8A54-43EF-4B27-8F08-F551E608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78B-7041-4874-BE74-586DA349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9AD-F89B-43AE-AB99-40204FCE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F724-D930-4393-9CEB-4F6A8BE4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602-9D60-4EE1-A106-76D4EC45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138-D1C5-46B7-BC69-271A8986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5FA-6E21-4215-99C8-4E1F3F55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B883-B9B4-45AF-8516-D1C04A575C4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B020-D891-4C04-B097-3EC7C310A97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Дискретная математика.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049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ия множ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ересеч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0480" y="1228680"/>
            <a:ext cx="917244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ересечение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ножеств А и В называется множество, состоящее из всех тех и только тех элементов, которые принадлежат как множеству А, так и множеству 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флексив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 =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мутатив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= В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ссоциатив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В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) = (А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 = А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йство 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йство 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5610240" y="4886280"/>
            <a:ext cx="2259000" cy="11685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5"/>
          <p:cNvSpPr/>
          <p:nvPr/>
        </p:nvSpPr>
        <p:spPr>
          <a:xfrm>
            <a:off x="7068960" y="4551480"/>
            <a:ext cx="1152720" cy="1979640"/>
          </a:xfrm>
          <a:prstGeom prst="ellipse">
            <a:avLst/>
          </a:prstGeom>
          <a:solidFill>
            <a:srgbClr val="cc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5614920" y="4888080"/>
            <a:ext cx="2254320" cy="11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7029360" y="5213520"/>
            <a:ext cx="10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азнос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0480" y="1228680"/>
            <a:ext cx="917244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азность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ножеств А и В называется множество, состоящее из всех тех и только тех элементов, которые принадлежат множеству А и не принадлежат множеству 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йство 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\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\ А =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йство 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\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\ 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2265480" y="4460760"/>
            <a:ext cx="4789440" cy="1441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4425840" y="4164120"/>
            <a:ext cx="3846600" cy="2379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2270160" y="4462560"/>
            <a:ext cx="4778280" cy="1438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8"/>
              <p:cNvSpPr txBox="1"/>
              <p:nvPr/>
            </p:nvSpPr>
            <p:spPr>
              <a:xfrm>
                <a:off x="6667560" y="3406680"/>
                <a:ext cx="433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5" name="AutoShape 9"/>
          <p:cNvSpPr/>
          <p:nvPr/>
        </p:nvSpPr>
        <p:spPr>
          <a:xfrm>
            <a:off x="1415880" y="5765760"/>
            <a:ext cx="1465560" cy="552600"/>
          </a:xfrm>
          <a:prstGeom prst="wedgeRoundRectCallout">
            <a:avLst>
              <a:gd name="adj1" fmla="val 80550"/>
              <a:gd name="adj2" fmla="val -116379"/>
              <a:gd name="adj3" fmla="val 16667"/>
            </a:avLst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\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мметрическая разнос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0480" y="1228680"/>
            <a:ext cx="899316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имметрической разность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ножеств А и В называется множество, состоящее из всех тех и только тех элементов, которые принадлежат объединению множеств А и В, и не принадлежат их пересечени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мутатив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/ В = В /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ссоциатив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/ (В/С) = (А/В) / С = А / В /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йство 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/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йство 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/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4749840" y="4405320"/>
                <a:ext cx="433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9" name="Rectangle 9"/>
          <p:cNvSpPr/>
          <p:nvPr/>
        </p:nvSpPr>
        <p:spPr>
          <a:xfrm>
            <a:off x="3595680" y="5264280"/>
            <a:ext cx="2370240" cy="1077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199120" y="4849920"/>
            <a:ext cx="3144960" cy="1815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5200560" y="5264280"/>
            <a:ext cx="1629000" cy="1077840"/>
          </a:xfrm>
          <a:prstGeom prst="rect">
            <a:avLst/>
          </a:prstGeom>
          <a:solidFill>
            <a:srgbClr val="f0f4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ополн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0480" y="1228680"/>
            <a:ext cx="917244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ополнение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ножества А до универсального множества называется множество, состоящее из всех тех и только тех элементов, которые принадлежат универсальному множеству, и не принадлежат множеству 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волютив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=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2602080" y="3546360"/>
                <a:ext cx="4330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45" name="Rectangle 8"/>
          <p:cNvSpPr/>
          <p:nvPr/>
        </p:nvSpPr>
        <p:spPr>
          <a:xfrm>
            <a:off x="5958000" y="4145040"/>
            <a:ext cx="2990880" cy="1842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6153120" y="4687920"/>
            <a:ext cx="1152720" cy="7891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5398920" y="3560760"/>
                <a:ext cx="433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1"/>
              <p:cNvSpPr txBox="1"/>
              <p:nvPr/>
            </p:nvSpPr>
            <p:spPr>
              <a:xfrm>
                <a:off x="4805280" y="3854520"/>
                <a:ext cx="3319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2"/>
              <p:cNvSpPr txBox="1"/>
              <p:nvPr/>
            </p:nvSpPr>
            <p:spPr>
              <a:xfrm>
                <a:off x="7466040" y="5472000"/>
                <a:ext cx="433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азбиения и покрыт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а множеств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{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…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разбиение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ножества М, если она удовлетворяет условия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юбое множество системы есть подмножество множества М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X :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, 1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юбые два множества системы являются непересекающимися: 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2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X : 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ъединение всех множеств системы дает множество М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4343400" y="5105520"/>
                <a:ext cx="25146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Алгебра подмножест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441440"/>
            <a:ext cx="8458200" cy="48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лгебра =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зовое множество, Операци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зультат применения любой операции к элементам базового множества также является элементом базового множе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лгебра подмножест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&lt;2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\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}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ножество всех подмножеств универсума с операциями объединения, пересечения , разности и дополнения образует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алгебру подмножеств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множества 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Законы теории множест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50520" y="1491840"/>
            <a:ext cx="690732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истрибутив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) = (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) = (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кон поглощ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= 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=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коны де Морга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ражение для раз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\ B = 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2496960" y="4533840"/>
                <a:ext cx="25178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∪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5"/>
              <p:cNvSpPr txBox="1"/>
              <p:nvPr/>
            </p:nvSpPr>
            <p:spPr>
              <a:xfrm>
                <a:off x="5214960" y="4540320"/>
                <a:ext cx="25178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∪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∩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6"/>
              <p:cNvSpPr txBox="1"/>
              <p:nvPr/>
            </p:nvSpPr>
            <p:spPr>
              <a:xfrm>
                <a:off x="4019400" y="5543640"/>
                <a:ext cx="4399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етод доказательства законов алгебры подмножест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9200" y="1566360"/>
            <a:ext cx="85932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им алгебраическое выражение над множествами А, В, С как Е(А,В,С). Результат выполнения операций данного выражения есть некоторое множество 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Е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Е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ва выражения над А,В,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доказать, что Е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Е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аточно показать, что Е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Е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доказать, что Е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убедиться, что из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леду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и, аналогично, для Е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что из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639720" y="1352520"/>
            <a:ext cx="3772080" cy="1892160"/>
          </a:xfrm>
          <a:prstGeom prst="rect">
            <a:avLst/>
          </a:prstGeom>
          <a:solidFill>
            <a:srgbClr val="f0f4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мер доказатель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2080" y="777960"/>
            <a:ext cx="85215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\ B =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\ B,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 определению разност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]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&amp;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если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чит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 в то же время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ледовательно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чит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 определению пересечения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]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&amp;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если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чит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 в то же время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ледовательно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 \ В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чит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ак как, было показано, что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amp;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ождество доказано. </a:t>
            </a:r>
            <a:r>
              <a:rPr b="0" lang="ru-RU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5410080" y="743040"/>
                <a:ext cx="4399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66" name="Oval 5"/>
          <p:cNvSpPr/>
          <p:nvPr/>
        </p:nvSpPr>
        <p:spPr>
          <a:xfrm>
            <a:off x="825480" y="1801800"/>
            <a:ext cx="2244600" cy="8938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 \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6"/>
          <p:cNvSpPr/>
          <p:nvPr/>
        </p:nvSpPr>
        <p:spPr>
          <a:xfrm>
            <a:off x="2284560" y="1528920"/>
            <a:ext cx="1803240" cy="1476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830160" y="1803240"/>
            <a:ext cx="2239920" cy="892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889520" y="1366920"/>
            <a:ext cx="3771720" cy="189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4"/>
          <p:cNvSpPr/>
          <p:nvPr/>
        </p:nvSpPr>
        <p:spPr>
          <a:xfrm>
            <a:off x="6534000" y="1544760"/>
            <a:ext cx="1803600" cy="1476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1"/>
          <p:cNvSpPr/>
          <p:nvPr/>
        </p:nvSpPr>
        <p:spPr>
          <a:xfrm>
            <a:off x="5075280" y="1816200"/>
            <a:ext cx="2244600" cy="8935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6"/>
          <p:cNvSpPr/>
          <p:nvPr/>
        </p:nvSpPr>
        <p:spPr>
          <a:xfrm>
            <a:off x="6521400" y="1862280"/>
            <a:ext cx="811440" cy="8460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6534000" y="1542960"/>
            <a:ext cx="1803600" cy="1476360"/>
          </a:xfrm>
          <a:prstGeom prst="ellipse">
            <a:avLst/>
          </a:prstGeom>
          <a:solidFill>
            <a:srgbClr val="cc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7"/>
              <p:cNvSpPr txBox="1"/>
              <p:nvPr/>
            </p:nvSpPr>
            <p:spPr>
              <a:xfrm>
                <a:off x="5168880" y="2738520"/>
                <a:ext cx="376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5" name="AutoShape 19"/>
          <p:cNvSpPr/>
          <p:nvPr/>
        </p:nvSpPr>
        <p:spPr>
          <a:xfrm>
            <a:off x="6856560" y="3300480"/>
            <a:ext cx="1065240" cy="45972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1"/>
              <p:cNvSpPr txBox="1"/>
              <p:nvPr/>
            </p:nvSpPr>
            <p:spPr>
              <a:xfrm>
                <a:off x="7527960" y="3330720"/>
                <a:ext cx="363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2"/>
              <p:cNvSpPr txBox="1"/>
              <p:nvPr/>
            </p:nvSpPr>
            <p:spPr>
              <a:xfrm>
                <a:off x="1241280" y="4137120"/>
                <a:ext cx="3524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3"/>
              <p:cNvSpPr txBox="1"/>
              <p:nvPr/>
            </p:nvSpPr>
            <p:spPr>
              <a:xfrm>
                <a:off x="709560" y="4137120"/>
                <a:ext cx="407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4"/>
              <p:cNvSpPr txBox="1"/>
              <p:nvPr/>
            </p:nvSpPr>
            <p:spPr>
              <a:xfrm>
                <a:off x="6991200" y="4441680"/>
                <a:ext cx="4082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5"/>
              <p:cNvSpPr txBox="1"/>
              <p:nvPr/>
            </p:nvSpPr>
            <p:spPr>
              <a:xfrm>
                <a:off x="3218040" y="3878280"/>
                <a:ext cx="407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6"/>
              <p:cNvSpPr txBox="1"/>
              <p:nvPr/>
            </p:nvSpPr>
            <p:spPr>
              <a:xfrm>
                <a:off x="1967040" y="4699080"/>
                <a:ext cx="407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93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труктурированное множеств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760" y="1260000"/>
            <a:ext cx="840888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ортеж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последовательность элементов, или совокупность элементов, в которой каждый элемент занимает определенное мест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лементы данной совокупности называются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компонент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ртеж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означение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а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…, а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- кортеж длины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компонентами а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…, а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6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( ) = </a:t>
            </a:r>
            <a:r>
              <a:rPr b="0" lang="de-DE" sz="22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      - пустой кортеж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6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жество слов во фраз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6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- координаты точки на плоск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6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ь в таблице базы да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личие от обычного множества: кортеж может содержать одинаковые по значению компоненты, например, точка с координатой (5,5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еория множест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ноже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ерации над множеств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порядоченные множе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ответст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ображения и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ектор. Гиперпространство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79520" y="1642680"/>
            <a:ext cx="866448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екто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точка пространств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- кортеж, элементами которого являются вещественные чис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странство, определяемое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рными векторами, называют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рным пространством (пространством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мерений) ил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иперпространств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екция векто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9520" y="1003320"/>
            <a:ext cx="8844120" cy="54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кортеж (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рассматривать как вектор, проведенный из начала координат в данную точку (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, то компоненты 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будут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оекция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ектора на оси координа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= 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= 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(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…,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вектор гиперпространства, т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de-DE" sz="3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de-DE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i= 1, 2, …,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de-DE" sz="3000" spc="-1" strike="noStrike" baseline="-25000">
                <a:solidFill>
                  <a:srgbClr val="000000"/>
                </a:solidFill>
                <a:latin typeface="Arial"/>
              </a:rPr>
              <a:t>i,j,…,k </a:t>
            </a:r>
            <a:r>
              <a:rPr b="0" i="1" lang="de-DE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…, 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j, …,k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мера осей, такие что,  1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 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… &lt; k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de-DE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de-DE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3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7"/>
          <p:cNvGrpSpPr/>
          <p:nvPr/>
        </p:nvGrpSpPr>
        <p:grpSpPr>
          <a:xfrm>
            <a:off x="5800680" y="2354400"/>
            <a:ext cx="1966680" cy="1865880"/>
            <a:chOff x="5800680" y="2354400"/>
            <a:chExt cx="1966680" cy="1865880"/>
          </a:xfrm>
        </p:grpSpPr>
        <p:sp>
          <p:nvSpPr>
            <p:cNvPr id="189" name="Line 5"/>
            <p:cNvSpPr/>
            <p:nvPr/>
          </p:nvSpPr>
          <p:spPr>
            <a:xfrm flipV="1">
              <a:off x="6186240" y="24530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>
              <a:off x="6186240" y="3857760"/>
              <a:ext cx="152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V="1">
              <a:off x="6198840" y="2980080"/>
              <a:ext cx="878040" cy="87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8"/>
            <p:cNvSpPr/>
            <p:nvPr/>
          </p:nvSpPr>
          <p:spPr>
            <a:xfrm>
              <a:off x="7065720" y="2918160"/>
              <a:ext cx="74520" cy="745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9"/>
            <p:cNvSpPr/>
            <p:nvPr/>
          </p:nvSpPr>
          <p:spPr>
            <a:xfrm>
              <a:off x="7427520" y="3794400"/>
              <a:ext cx="33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0"/>
            <p:cNvSpPr/>
            <p:nvPr/>
          </p:nvSpPr>
          <p:spPr>
            <a:xfrm>
              <a:off x="5800680" y="3821400"/>
              <a:ext cx="70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(0,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5862240" y="2354400"/>
              <a:ext cx="33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6791040" y="2554560"/>
              <a:ext cx="854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(а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,а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3"/>
            <p:cNvSpPr/>
            <p:nvPr/>
          </p:nvSpPr>
          <p:spPr>
            <a:xfrm>
              <a:off x="7102080" y="2967120"/>
              <a:ext cx="0" cy="89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4"/>
            <p:cNvSpPr/>
            <p:nvPr/>
          </p:nvSpPr>
          <p:spPr>
            <a:xfrm flipH="1">
              <a:off x="6185880" y="2967120"/>
              <a:ext cx="903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6927840" y="377064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5886360" y="27561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ямое произведение множест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400" y="1255680"/>
            <a:ext cx="82422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ямы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декартовы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изведение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множеств А и В, называется множеств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состоящее из всех тех и только тех упорядоченных пар, первая компонента которых принадлежит множеству А, вторая - 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(a,b) | a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&amp; b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}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{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…,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| 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=1, 2, …, 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картово произведение не коммутатив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картово произведение есть пустое множество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один из сомножителей - пустое множеств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=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A=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B=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4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тепень множе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72072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тепень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ножества А называется его прямое произведение самого на себя:   А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};     А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A;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;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А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орем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| = |A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B|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оказательст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компонент кортежа (а,b) можно выбрать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A|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пособам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компонен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B|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им образом, имеется всег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A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B|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личных кортежей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,b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едстви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| = |A|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325080" y="2000160"/>
            <a:ext cx="1979640" cy="368280"/>
            <a:chOff x="325080" y="2000160"/>
            <a:chExt cx="1979640" cy="368280"/>
          </a:xfrm>
        </p:grpSpPr>
        <p:sp>
          <p:nvSpPr>
            <p:cNvPr id="206" name="AutoShape 4"/>
            <p:cNvSpPr/>
            <p:nvPr/>
          </p:nvSpPr>
          <p:spPr>
            <a:xfrm flipV="1" rot="16200000">
              <a:off x="1283400" y="1107720"/>
              <a:ext cx="63000" cy="1979640"/>
            </a:xfrm>
            <a:custGeom>
              <a:avLst/>
              <a:gdLst>
                <a:gd name="textAreaLeft" fmla="*/ 40320 w 63000"/>
                <a:gd name="textAreaRight" fmla="*/ 63000 w 63000"/>
                <a:gd name="textAreaTop" fmla="*/ 51480 h 1979640"/>
                <a:gd name="textAreaBottom" fmla="*/ 1928160 h 19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5"/>
            <p:cNvSpPr/>
            <p:nvPr/>
          </p:nvSpPr>
          <p:spPr>
            <a:xfrm>
              <a:off x="960480" y="2000160"/>
              <a:ext cx="127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р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47880" y="298440"/>
            <a:ext cx="701496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екция множе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06280" y="9536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усть А - множество, состоящее из кортежей длины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тогда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проекцией множества 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называют множество проекций кортежей из 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(операция проекции может применяться только к таким множествам, элементами которых являются кортежи одинаковой длины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1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А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Х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1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А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Х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оответств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31920" y="1166760"/>
            <a:ext cx="86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оответстви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это множество пар вида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,          образующихся при  сопоставлении заданным образом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лементов множества А элементам множества В,и сами сопоставляемые множеств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и 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(A, B, Q), Q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бластью определ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оответствия, или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источник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оответств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бластью значени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оответствия, или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иемник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жество пар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ределяющих соответствие,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рафик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оответств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10880" y="1330200"/>
            <a:ext cx="89694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виде описания в соответствии 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асный, желтый, зелены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; B={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оять, идт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={(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асный, стоять),(зеленый, идт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афичес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виде матриц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2"/>
          <p:cNvSpPr/>
          <p:nvPr/>
        </p:nvSpPr>
        <p:spPr>
          <a:xfrm>
            <a:off x="3995640" y="3243240"/>
            <a:ext cx="2606760" cy="1392120"/>
          </a:xfrm>
          <a:prstGeom prst="ellipse">
            <a:avLst/>
          </a:prstGeom>
          <a:solidFill>
            <a:srgbClr val="cc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пособы задания соответств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15" name="Object 1024"/>
          <p:cNvGraphicFramePr/>
          <p:nvPr/>
        </p:nvGraphicFramePr>
        <p:xfrm>
          <a:off x="4335480" y="4743360"/>
          <a:ext cx="3384360" cy="157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5480" y="4743360"/>
                    <a:ext cx="338436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Object 1025" descr=""/>
          <p:cNvPicPr/>
          <p:nvPr/>
        </p:nvPicPr>
        <p:blipFill>
          <a:blip r:embed="rId3"/>
          <a:stretch/>
        </p:blipFill>
        <p:spPr>
          <a:xfrm>
            <a:off x="7478640" y="3191040"/>
            <a:ext cx="623880" cy="1116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7867800" y="291312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Object 1026" descr=""/>
          <p:cNvPicPr/>
          <p:nvPr/>
        </p:nvPicPr>
        <p:blipFill>
          <a:blip r:embed="rId4"/>
          <a:stretch/>
        </p:blipFill>
        <p:spPr>
          <a:xfrm>
            <a:off x="4865760" y="3470400"/>
            <a:ext cx="325440" cy="698400"/>
          </a:xfrm>
          <a:prstGeom prst="rect">
            <a:avLst/>
          </a:prstGeom>
          <a:ln w="0">
            <a:noFill/>
          </a:ln>
        </p:spPr>
      </p:pic>
      <p:pic>
        <p:nvPicPr>
          <p:cNvPr id="220" name="Object 1027" descr=""/>
          <p:cNvPicPr/>
          <p:nvPr/>
        </p:nvPicPr>
        <p:blipFill>
          <a:blip r:embed="rId5"/>
          <a:stretch/>
        </p:blipFill>
        <p:spPr>
          <a:xfrm flipH="1">
            <a:off x="5221440" y="4022640"/>
            <a:ext cx="480960" cy="588960"/>
          </a:xfrm>
          <a:prstGeom prst="rect">
            <a:avLst/>
          </a:prstGeom>
          <a:ln w="0">
            <a:noFill/>
          </a:ln>
        </p:spPr>
      </p:pic>
      <p:sp>
        <p:nvSpPr>
          <p:cNvPr id="221" name="Line 13"/>
          <p:cNvSpPr/>
          <p:nvPr/>
        </p:nvSpPr>
        <p:spPr>
          <a:xfrm flipH="1">
            <a:off x="5200560" y="3492360"/>
            <a:ext cx="2581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4"/>
          <p:cNvSpPr/>
          <p:nvPr/>
        </p:nvSpPr>
        <p:spPr>
          <a:xfrm flipH="1" flipV="1">
            <a:off x="5664240" y="4118040"/>
            <a:ext cx="2117520" cy="3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братное соответств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25520" y="1303200"/>
            <a:ext cx="87184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ответствие, обозначаемое как 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 (B, A,Q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вля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братны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для соответствия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(A,B,Q)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получается, если данное соответстви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ссматривать в обратном направлен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асный, желтый, зелены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; B={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оять, идт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={(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асный, стоять),(зеленый, идт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}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{(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оять,  красный),(идти, зелены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}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q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омпозиция соответств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96800" y="1228680"/>
            <a:ext cx="86472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мпозиция соответств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перац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3-мя множествами А, В, С, на которых заданы два соответств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A, B, Q)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В, С, Р)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Р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причем область значений первого соответств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впадает с областью определения второго 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(p) = (A, C, Q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),    Q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ножества. Основные понят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8920" y="1066680"/>
            <a:ext cx="8556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Множеств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совокупность определенных, вполне различаемых объектов, рассматриваемых как цело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Элемент множ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дельный объект множ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Пустое множеств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ножество не содержащее элем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Универсальное множеств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ниверсу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множество содержащее все возможные элементы в рамках заданного рассмотр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Мощность множ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|M|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элементов множеств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пособы задания множест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числение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…,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{1, 2, 3, 4, 5, 6, 7, 8, 9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деление определяющего св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 = {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 | 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 | 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 10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порождающей процед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 = {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f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 |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9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равнение множест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ва множества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равны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жду собой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они состоят из одних и тех же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ойства: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ля любых трех множеств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X, Y, Z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6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флексивн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X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демпотентность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7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ммутативнос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= Y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 = 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7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анзитивнос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X = Y) &amp; (Y = Z) 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X = Z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ножеств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вляется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подмножеств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ножества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если любой элемент множества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надлежит и множеству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Y;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7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флексивн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7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анзитив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&amp; Y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Z, 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7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0 и 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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Границы множе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5040" y="9558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множество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конечн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состоит из элементов, сравнимых между собой, то существу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аибольши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аименьши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элементы такого множ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множество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бесконечн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состоит из элементов, сравнимых между собой, то существу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раницы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го множества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ерхня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ижня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= {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|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&lt;x&lt;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= ]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inf 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'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ину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sup 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уп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му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еорема о граница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60240" y="11844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В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, т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inf А; sup В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sup 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оказательст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'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' = inf B;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.к. В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'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'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' = inf A;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эт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' = b'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' = a'=inf А;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'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'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' = inf B &gt; a'=inf 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"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" = sup B;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.к. В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"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"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a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sup A;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эт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" = a"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"=sup 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"=sup B;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"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"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"=sup 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"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 rot="16200000">
            <a:off x="5379840" y="3314160"/>
            <a:ext cx="289080" cy="51055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 rot="5391600">
            <a:off x="5951160" y="4471560"/>
            <a:ext cx="209520" cy="3276720"/>
          </a:xfrm>
          <a:prstGeom prst="flowChartDelay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71800" y="601200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2933640" y="5961240"/>
            <a:ext cx="76320" cy="759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4381560" y="5973840"/>
            <a:ext cx="76320" cy="759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7642080" y="5975280"/>
            <a:ext cx="76320" cy="7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8043840" y="5975280"/>
            <a:ext cx="76320" cy="7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перации над множества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4880" y="1523880"/>
            <a:ext cx="8709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ъедин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 = {x |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сеч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 = {x |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&amp;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нос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\B = {x |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&amp;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мметрическая раз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B = (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\(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) = {x | (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&amp;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&amp;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полн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= {x | 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A} = U\A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который универсу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0"/>
              <p:cNvSpPr txBox="1"/>
              <p:nvPr/>
            </p:nvSpPr>
            <p:spPr>
              <a:xfrm>
                <a:off x="4262400" y="4387680"/>
                <a:ext cx="457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бъедин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2880" y="1228680"/>
            <a:ext cx="887112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бъединение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ножеств А и В называется множество, состоящее из всех тех и только тех элементов, которые принадлежат хотя бы одному из множеств А или 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флексив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 =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мутатив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= В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ссоциатив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В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) = (А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 = А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йство 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йство 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5610240" y="4886280"/>
            <a:ext cx="2259000" cy="11685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7091280" y="4527720"/>
            <a:ext cx="1152720" cy="1979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6"/>
          <p:cNvSpPr/>
          <p:nvPr/>
        </p:nvSpPr>
        <p:spPr>
          <a:xfrm>
            <a:off x="5614920" y="4888080"/>
            <a:ext cx="2254320" cy="11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137720" y="528804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08:57:55Z</dcterms:created>
  <dc:creator>Olga N. Evseeva</dc:creator>
  <dc:description/>
  <dc:language>en-US</dc:language>
  <cp:lastModifiedBy>Остроух</cp:lastModifiedBy>
  <dcterms:modified xsi:type="dcterms:W3CDTF">2013-12-11T15:16:53Z</dcterms:modified>
  <cp:revision>74</cp:revision>
  <dc:subject/>
  <dc:title>Дискретный анализ</dc:title>
</cp:coreProperties>
</file>