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37C-F9E4-4384-B15D-808EAA72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912-3D63-4837-BB74-DEEA0B78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D6B6-9472-4B5C-8CB4-D9408F8C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F54A-727A-4216-A8CB-0EBB83CF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E8BD-0D30-4469-9003-B1A17FCC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6941-6C09-413B-B329-81594D47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C457-1A5E-4F6E-96C6-46F68D76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A97A-3130-41B1-92B2-3A99E6D7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2B72-B68E-480A-AD46-C29B6BAA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A9EF-DC2B-4916-86CF-DB785826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B507-DC32-45AD-B440-268AE09B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17A-DE6C-4BB9-9A86-15E4A0B7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56D4-9437-4BBC-B79D-705C6606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88CA-C049-491A-9C02-D957BB4C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D4C4-4690-4DF5-8766-B3365E3C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0128-C679-40E0-BACF-7B3D21D8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44AC-8926-41E6-AA6C-8CCCCDAF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DE78B-D16E-418A-8F48-CF6DC378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065A0-BA3F-45BE-9767-FDC88CAA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98D60-BFD8-4D63-A6F4-C6C88FAA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3B74A-212F-4113-9DAE-CF2C271C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D064E-994A-455E-8997-7CA3478C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596-97FE-4355-8486-08AA7618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E19C3-46C6-4035-BAC2-34C2B5EE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5B158-E2BF-441A-840B-4184EC66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DE442-64B9-4376-973A-060F1F17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1A501-762B-416D-92DE-BF0547CA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2BA3A-BC41-4A6E-8A83-7D72EFFF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DC054-3FE8-4FC2-8A0D-E4A398D8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C4ECE-4413-4337-979E-6C7876E0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C9949-4408-4E5D-811B-A49BB545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1435A-CF09-4AC4-B1A5-D735B366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D6901-9FD9-426C-9D50-8D64AE1B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A2FF-40C5-48B8-A470-A03B07B9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137C8-5FAD-473B-8F4D-3E37325E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DF334-E27E-4031-8BB2-371D4963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085E1-5884-4E71-841E-41555171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8D7CD-FFB8-4DD0-8654-B8244434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8D0AA-3DBC-4748-A9D5-A453DB7F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8440B-445E-4EE0-887A-D1D6A920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794D0-B0D7-431A-B546-1078990F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5DD43-7AD7-4530-99A2-8896F493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13A40-1ECE-4FC6-9FB2-E276DDF0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F75AC-09F2-49D8-B3AD-6927E988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753-50CD-4DE1-B418-E6386552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DF850-7427-45E2-9481-38C8F733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88F98-D5CF-48FD-AF56-E7E8A965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885D5-B8F2-4181-9F30-6C25126A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4FBFB-BB64-4F6C-9A77-04E87389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99005-5B8C-4039-BA19-D22977DA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E4307-E555-4B3A-BB7E-192AB5B9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C41CE-E918-420E-B12E-586012CC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19FB3-81F9-4066-8A47-90EBF037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2C8F8-C24D-4136-9CC5-F24B9A68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9EEB2-B3E0-46BA-AB96-082D8A9C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1C9B-2B87-4015-9F30-E4A6C843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E6387-F523-4387-83F4-567EAB08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039E1-19B0-434A-96D2-2EF58812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3780A-FA2C-4F7A-9AFE-66E0B274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88945-EA58-423D-BA5D-E0C4B890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65F33-625E-4374-BF96-16B9CF6A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2E8B6-FAD9-4D0F-AF51-086CACDA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DAC2E-65D9-4CBA-864A-8693B134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36625-30D1-4ECD-9C70-F25628AE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C1A0D-A99B-4804-96F9-B3DCB083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4D181-9427-45B8-B3B3-09DDF70F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4A0-80C6-4956-873E-134AE523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11177-6A76-40AB-A34C-2364FEF1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A0B77-EDE2-4698-9C6F-E1EC46EC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003FF-2BDC-458C-95FC-033F4AAB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C2C5F-1D06-4FF1-BC02-2D46CF16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16CC5-4205-48B6-9A1D-6EA8430F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48640-983F-47B8-8818-D96CD08F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F0A37-49BE-4961-B30C-D5ECB561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95747-C9CA-40C3-8CB4-4952A723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EE06D-FF1A-47A1-BD5E-5C338E5A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3CB02-A2D9-4BC9-9830-8732184B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466E-0A66-426F-BEB3-8018C9A6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CEBD2-27E0-4B8C-8730-E9A1AA84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AF94F-B3BA-4EA6-BBF3-13C1EE2B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6FA8A-2B69-4454-ABDC-FD1ECE82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5B06F-9D61-45DC-B19E-03AC46A0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D3FEF-3BEB-4F47-B2D3-1F4E5FF1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26EC-EE82-4427-BF7D-9C605AE8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3204-8333-454A-B86E-7F194F81207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237F-BECE-461B-9414-C888DE8BB89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5FD2-75E2-43C6-B0BB-5B22A8CFBA7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5EB5-F91C-47F3-9A08-ED77B698722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FB15-7F06-4D80-BFB5-B56BA7E41CC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2DF0-3C9D-481E-A108-51A0A284319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1563-7362-48B1-9A9B-2E38BDA79B4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2640" y="1356840"/>
            <a:ext cx="8358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Матрицы графов и их свойства.</a:t>
            </a:r>
            <a:br>
              <a:rPr sz="4400"/>
            </a:br>
            <a:br>
              <a:rPr sz="3900"/>
            </a:b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000080" y="342900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20e04"/>
                </a:solidFill>
                <a:latin typeface="Corbel"/>
              </a:rPr>
              <a:t>Матрица смежности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Прямоугольник 4"/>
          <p:cNvSpPr/>
          <p:nvPr/>
        </p:nvSpPr>
        <p:spPr>
          <a:xfrm>
            <a:off x="920520" y="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мер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357200" y="357120"/>
            <a:ext cx="5643720" cy="21193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"/>
          <p:cNvPicPr/>
          <p:nvPr/>
        </p:nvPicPr>
        <p:blipFill>
          <a:blip r:embed="rId2"/>
          <a:stretch/>
        </p:blipFill>
        <p:spPr>
          <a:xfrm>
            <a:off x="2428920" y="2286000"/>
            <a:ext cx="3214800" cy="47484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15"/>
          <p:cNvSpPr/>
          <p:nvPr/>
        </p:nvSpPr>
        <p:spPr>
          <a:xfrm>
            <a:off x="1285920" y="2786040"/>
            <a:ext cx="600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оизведение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. Рассмотрим 2 вершины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                           U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,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) и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,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) из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V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 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Picture 11" descr=""/>
          <p:cNvPicPr/>
          <p:nvPr/>
        </p:nvPicPr>
        <p:blipFill>
          <a:blip r:embed="rId3"/>
          <a:stretch/>
        </p:blipFill>
        <p:spPr>
          <a:xfrm>
            <a:off x="1857240" y="3500280"/>
            <a:ext cx="5572440" cy="215136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17"/>
          <p:cNvSpPr/>
          <p:nvPr/>
        </p:nvSpPr>
        <p:spPr>
          <a:xfrm>
            <a:off x="1000080" y="557208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мпозиция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[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] также имеет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V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 в качестве множества вершин и вершина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,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) смежна с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,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) тогда и только тогда, когда [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dj V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] или [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=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 и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dj V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857240" y="0"/>
            <a:ext cx="4219560" cy="2214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"/>
          <p:cNvPicPr/>
          <p:nvPr/>
        </p:nvPicPr>
        <p:blipFill>
          <a:blip r:embed="rId2"/>
          <a:stretch/>
        </p:blipFill>
        <p:spPr>
          <a:xfrm>
            <a:off x="1357200" y="2200320"/>
            <a:ext cx="4143600" cy="2143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"/>
          <p:cNvPicPr/>
          <p:nvPr/>
        </p:nvPicPr>
        <p:blipFill>
          <a:blip r:embed="rId3"/>
          <a:stretch/>
        </p:blipFill>
        <p:spPr>
          <a:xfrm>
            <a:off x="1285920" y="4500720"/>
            <a:ext cx="3929040" cy="235728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6"/>
          <p:cNvSpPr/>
          <p:nvPr/>
        </p:nvSpPr>
        <p:spPr>
          <a:xfrm>
            <a:off x="5500800" y="3429000"/>
            <a:ext cx="500040" cy="2286000"/>
          </a:xfrm>
          <a:custGeom>
            <a:avLst/>
            <a:gdLst>
              <a:gd name="textAreaLeft" fmla="*/ 0 w 500040"/>
              <a:gd name="textAreaRight" fmla="*/ 180360 w 500040"/>
              <a:gd name="textAreaTop" fmla="*/ 78120 h 2286000"/>
              <a:gd name="textAreaBottom" fmla="*/ 220788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82"/>
                  <a:pt x="10800" y="2363"/>
                </a:cubicBezTo>
                <a:lnTo>
                  <a:pt x="10800" y="8437"/>
                </a:lnTo>
                <a:cubicBezTo>
                  <a:pt x="10800" y="9619"/>
                  <a:pt x="16200" y="10800"/>
                  <a:pt x="21600" y="10800"/>
                </a:cubicBezTo>
                <a:cubicBezTo>
                  <a:pt x="16200" y="10800"/>
                  <a:pt x="10800" y="11982"/>
                  <a:pt x="10800" y="13163"/>
                </a:cubicBezTo>
                <a:lnTo>
                  <a:pt x="10800" y="19237"/>
                </a:lnTo>
                <a:cubicBezTo>
                  <a:pt x="10800" y="204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Прямоугольник 8"/>
          <p:cNvSpPr/>
          <p:nvPr/>
        </p:nvSpPr>
        <p:spPr>
          <a:xfrm>
            <a:off x="6143760" y="428616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е изоморфн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8143920" cy="17701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1035000" y="2286000"/>
            <a:ext cx="8109000" cy="2214720"/>
          </a:xfrm>
          <a:prstGeom prst="rect">
            <a:avLst/>
          </a:prstGeom>
          <a:ln w="0">
            <a:noFill/>
          </a:ln>
        </p:spPr>
      </p:pic>
      <p:sp>
        <p:nvSpPr>
          <p:cNvPr id="375" name="Прямоугольник 5"/>
          <p:cNvSpPr/>
          <p:nvPr/>
        </p:nvSpPr>
        <p:spPr>
          <a:xfrm>
            <a:off x="785880" y="47149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атрица С не определяет однозначно граф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 Оба графа имеют цикл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Прямоугольник 6"/>
          <p:cNvSpPr/>
          <p:nvPr/>
        </p:nvSpPr>
        <p:spPr>
          <a:xfrm>
            <a:off x="1000080" y="5429160"/>
            <a:ext cx="721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={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,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}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  z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4={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,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,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4,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,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}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={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4,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,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}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={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4,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,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7,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8}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={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,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7,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8}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        z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={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,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,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4,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,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7,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8}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6229440" cy="334332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4"/>
          <p:cNvSpPr/>
          <p:nvPr/>
        </p:nvSpPr>
        <p:spPr>
          <a:xfrm>
            <a:off x="1000080" y="357192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сли граф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имеет матрицу инциденций В и матрицу циклов С, т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*В</a:t>
            </a:r>
            <a:r>
              <a:rPr b="0" lang="ru-RU" sz="2400" spc="-1" strike="noStrike" baseline="30000">
                <a:solidFill>
                  <a:srgbClr val="000000"/>
                </a:solidFill>
                <a:latin typeface="Monotype Corsiva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≡0(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od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2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Прямоугольник 5"/>
          <p:cNvSpPr/>
          <p:nvPr/>
        </p:nvSpPr>
        <p:spPr>
          <a:xfrm>
            <a:off x="1000080" y="4429080"/>
            <a:ext cx="814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оказательство: рассмотрим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ю строку матрицы С и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–й столбец матрицы В</a:t>
            </a:r>
            <a:r>
              <a:rPr b="0" lang="ru-RU" sz="2400" spc="-1" strike="noStrike" baseline="30000">
                <a:solidFill>
                  <a:srgbClr val="000000"/>
                </a:solidFill>
                <a:latin typeface="Monotype Corsiva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, которая является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–й строкой матрицы В. Оба 2-х элемента этих двух строк ≠ 0 тогда  и только тогда, когда ребро Х2 принадлежит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му циклу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i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и инцидентно 3,вершин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Vi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 Если цикл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i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содержит Х2, то он содержит и вершину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Vj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Задача: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Найти число частей графа с </a:t>
            </a:r>
            <a:r>
              <a:rPr b="0" lang="en-US" sz="2400" spc="-1" strike="noStrike">
                <a:solidFill>
                  <a:srgbClr val="572314"/>
                </a:solidFill>
                <a:latin typeface="Gill Sans MT"/>
              </a:rPr>
              <a:t>m</a:t>
            </a: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  ребрами.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Найти число частей графа с данным числом ребер р.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Задача:  Даны графы: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1046160" y="2428920"/>
            <a:ext cx="8097840" cy="241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"/>
          <p:cNvPicPr/>
          <p:nvPr/>
        </p:nvPicPr>
        <p:blipFill>
          <a:blip r:embed="rId2"/>
          <a:stretch/>
        </p:blipFill>
        <p:spPr>
          <a:xfrm>
            <a:off x="1000080" y="5072040"/>
            <a:ext cx="8143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" descr=""/>
          <p:cNvPicPr/>
          <p:nvPr/>
        </p:nvPicPr>
        <p:blipFill>
          <a:blip r:embed="rId1"/>
          <a:stretch/>
        </p:blipFill>
        <p:spPr>
          <a:xfrm>
            <a:off x="1071720" y="214200"/>
            <a:ext cx="8032680" cy="485784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6"/>
          <p:cNvSpPr/>
          <p:nvPr/>
        </p:nvSpPr>
        <p:spPr>
          <a:xfrm>
            <a:off x="721080" y="5500800"/>
            <a:ext cx="64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4) Композицию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1[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2] и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2[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1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071720" y="142920"/>
            <a:ext cx="8072280" cy="514332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4"/>
          <p:cNvSpPr/>
          <p:nvPr/>
        </p:nvSpPr>
        <p:spPr>
          <a:xfrm>
            <a:off x="2714760" y="571500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1p2, p1q2+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q1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1"/>
          <a:srcRect l="0" t="0" r="45696" b="0"/>
          <a:stretch/>
        </p:blipFill>
        <p:spPr>
          <a:xfrm>
            <a:off x="1000080" y="2500200"/>
            <a:ext cx="3357720" cy="351324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5857920" y="2786040"/>
                <a:ext cx="1928880" cy="26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 txBox="1"/>
          <p:nvPr/>
        </p:nvSpPr>
        <p:spPr>
          <a:xfrm>
            <a:off x="999720" y="5500800"/>
            <a:ext cx="792972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Суммы элементов матрицы А по строкам равны степеням вершин графа 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  (ρ(1)=3, ρ(2)=2, ρ(3)=4, ρ(4)=2, ρ(5)=3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Прямоугольник 8"/>
          <p:cNvSpPr/>
          <p:nvPr/>
        </p:nvSpPr>
        <p:spPr>
          <a:xfrm>
            <a:off x="928800" y="0"/>
            <a:ext cx="82152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Матрицей смежности (смежностей) А=||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Monotype Corsiva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|| графа 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 с 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  вершинами называется (р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р) матрица, в которой 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Monotype Corsiva"/>
              </a:rPr>
              <a:t>ij 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= 1, если вершина υ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смежна с 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υ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Monotype Corsiva"/>
              </a:rPr>
              <a:t>j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Monotype Corsiv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и а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Monotype Corsiva"/>
              </a:rPr>
              <a:t>ij 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= 0 в противном случае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Прямоугольник 9"/>
          <p:cNvSpPr/>
          <p:nvPr/>
        </p:nvSpPr>
        <p:spPr>
          <a:xfrm>
            <a:off x="1000080" y="1357200"/>
            <a:ext cx="81439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Итак, существует взаимно однозначноесоответствие между графами с р вершинами и симметрическими бинарными (р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р) – матрицами с нулями на главной диагонал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571320" y="0"/>
            <a:ext cx="8291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Матрица смежности орграфа</a:t>
            </a:r>
            <a:r>
              <a:rPr b="0" lang="en-US" sz="3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определяется аналогично:</a:t>
            </a:r>
            <a:r>
              <a:rPr b="0" lang="en-US" sz="3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А=А(Д)=||</a:t>
            </a:r>
            <a:r>
              <a:rPr b="0" lang="en-US" sz="3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Monotype Corsiva"/>
              </a:rPr>
              <a:t>ij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||, где а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Monotype Corsiva"/>
              </a:rPr>
              <a:t>ij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= 1, если дуга υ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υ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Monotype Corsiva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принадлежит Д, и </a:t>
            </a:r>
            <a:r>
              <a:rPr b="0" lang="en-US" sz="3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Monotype Corsiva"/>
              </a:rPr>
              <a:t>ij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= 0 в противном</a:t>
            </a:r>
            <a:r>
              <a:rPr b="0" lang="en-US" sz="3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случае. Итак, А(Д) не обязательно симметричн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Матрицу смежности данного графа можно рассматривать как матрицу смежности симметрического орграф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Линейным подграфом орграфа Д называется подграф, в котором у каждой вершины полустепень исхода и полустепень захода равны 1. Таким образом, такой подграф содержит непересекающийся набор простых контуров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Остовной подграф -  подграф графа </a:t>
            </a:r>
            <a:r>
              <a:rPr b="0" lang="en-US" sz="30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, содержащий все его вершины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атрица инциденций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71320" y="1071720"/>
            <a:ext cx="835812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атрица инциденций определяет граф  с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очностью  до изоморфизм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Содержимое 2"/>
          <p:cNvSpPr/>
          <p:nvPr/>
        </p:nvSpPr>
        <p:spPr>
          <a:xfrm>
            <a:off x="928800" y="2143080"/>
            <a:ext cx="82152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еорема с связи матрицы смежностей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и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атрицы инциденций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 Пусть В</a:t>
            </a:r>
            <a:r>
              <a:rPr b="0" lang="ru-RU" sz="2800" spc="-1" strike="noStrike" baseline="30000">
                <a:solidFill>
                  <a:srgbClr val="000000"/>
                </a:solidFill>
                <a:latin typeface="Monotype Corsiva"/>
              </a:rPr>
              <a:t>Т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–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ранспонируемая матрица к 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Содержимое 2"/>
          <p:cNvSpPr/>
          <p:nvPr/>
        </p:nvSpPr>
        <p:spPr>
          <a:xfrm>
            <a:off x="357120" y="3786120"/>
            <a:ext cx="892980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=||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Monotype Corsiva"/>
              </a:rPr>
              <a:t>ij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||, размерность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nxm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вершин,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дуг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Monotype Corsiva"/>
              </a:rPr>
              <a:t>ij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= 1, если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является начальной вершиной дуги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Monotype Corsiva"/>
              </a:rPr>
              <a:t>j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Monotype Corsiva"/>
              </a:rPr>
              <a:t>ij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= -1, если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является конечной вершиной дуги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Monotype Corsiva"/>
              </a:rPr>
              <a:t>j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Monotype Corsiva"/>
              </a:rPr>
              <a:t>ij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= 0, если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не является концевой вершиной дуги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Monotype Corsiva"/>
              </a:rPr>
              <a:t>j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или если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Monotype Corsiva"/>
              </a:rPr>
              <a:t>j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является петле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1785960" y="0"/>
            <a:ext cx="5786280" cy="25160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2"/>
          <a:stretch/>
        </p:blipFill>
        <p:spPr>
          <a:xfrm>
            <a:off x="1214280" y="2286000"/>
            <a:ext cx="6147000" cy="2430360"/>
          </a:xfrm>
          <a:prstGeom prst="rect">
            <a:avLst/>
          </a:prstGeom>
          <a:ln w="0">
            <a:noFill/>
          </a:ln>
        </p:spPr>
      </p:pic>
      <p:sp>
        <p:nvSpPr>
          <p:cNvPr id="333" name="Содержимое 2"/>
          <p:cNvSpPr/>
          <p:nvPr/>
        </p:nvSpPr>
        <p:spPr>
          <a:xfrm>
            <a:off x="1000080" y="4572000"/>
            <a:ext cx="81439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Для любого реберного (</a:t>
            </a: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q</a:t>
            </a: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) графа </a:t>
            </a: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 с матрицей инциденций В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А( (</a:t>
            </a: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)) = </a:t>
            </a: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-2</a:t>
            </a: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Iq</a:t>
            </a: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Содержимое 2"/>
          <p:cNvSpPr/>
          <p:nvPr/>
        </p:nvSpPr>
        <p:spPr>
          <a:xfrm>
            <a:off x="1000080" y="5286240"/>
            <a:ext cx="814392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где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q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– единичная матрица порядка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 Имеется в виду реберный граф (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)  все вершины которого взаимно однозначно сопоставлены ребрам графа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, причем две вершины в (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) смежны тогда и только тогда, когда соответствующие им ребра смежны в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3"/>
          <p:cNvSpPr/>
          <p:nvPr/>
        </p:nvSpPr>
        <p:spPr>
          <a:xfrm>
            <a:off x="2500200" y="21420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: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3429000" y="0"/>
            <a:ext cx="2963880" cy="171468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3"/>
              <p:cNvSpPr txBox="1"/>
              <p:nvPr/>
            </p:nvSpPr>
            <p:spPr>
              <a:xfrm>
                <a:off x="3143160" y="1857240"/>
                <a:ext cx="114300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5"/>
              <p:cNvSpPr txBox="1"/>
              <p:nvPr/>
            </p:nvSpPr>
            <p:spPr>
              <a:xfrm>
                <a:off x="4857840" y="1785960"/>
                <a:ext cx="131292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7"/>
              <p:cNvSpPr txBox="1"/>
              <p:nvPr/>
            </p:nvSpPr>
            <p:spPr>
              <a:xfrm>
                <a:off x="2786040" y="3357720"/>
                <a:ext cx="350064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В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43" name="Picture 9" descr=""/>
          <p:cNvPicPr/>
          <p:nvPr/>
        </p:nvPicPr>
        <p:blipFill>
          <a:blip r:embed="rId2"/>
          <a:stretch/>
        </p:blipFill>
        <p:spPr>
          <a:xfrm>
            <a:off x="1857240" y="5214960"/>
            <a:ext cx="6096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1000080" y="324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роим граф: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1" descr=""/>
          <p:cNvPicPr/>
          <p:nvPr/>
        </p:nvPicPr>
        <p:blipFill>
          <a:blip r:embed="rId1"/>
          <a:stretch/>
        </p:blipFill>
        <p:spPr>
          <a:xfrm>
            <a:off x="2428920" y="642960"/>
            <a:ext cx="2490840" cy="172224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5"/>
          <p:cNvSpPr/>
          <p:nvPr/>
        </p:nvSpPr>
        <p:spPr>
          <a:xfrm>
            <a:off x="928800" y="2428920"/>
            <a:ext cx="82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скольку каждая дуга инцидентна двум различным вершинам, за исключением того случая, когда дуга образует петлю, то каждый столбец либо содержит один элемент, равный 1, и один, равный -1, либо все элементы столбца равны 0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– неориентированный граф, то его матрица инциденций определяется также, за исключением того, что все элементы, равные -1, заменяются на +1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бобщение на случай мультиграфа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"/>
          <p:cNvSpPr/>
          <p:nvPr/>
        </p:nvSpPr>
        <p:spPr>
          <a:xfrm>
            <a:off x="1000080" y="-34560"/>
            <a:ext cx="814392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А=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j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 числу ребер в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 соединяющей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1785960" y="571680"/>
            <a:ext cx="3490920" cy="214308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5929200" y="1000080"/>
                <a:ext cx="107964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6"/>
              <p:cNvSpPr txBox="1"/>
              <p:nvPr/>
            </p:nvSpPr>
            <p:spPr>
              <a:xfrm>
                <a:off x="5572080" y="2786040"/>
                <a:ext cx="142884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V</m:t>
                          </m:r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t xml:space="preserve">V</m:t>
                          </m:r>
                          <m:r>
                            <m:t xml:space="preserve">2</m:t>
                          </m:r>
                        </m:e>
                      </m:mr>
                      <m:mr>
                        <m:e>
                          <m:eqArr>
                            <m:e>
                              <m:r>
                                <m:t xml:space="preserve">V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V</m:t>
                              </m:r>
                              <m:r>
                                <m:t xml:space="preserve">4</m:t>
                              </m:r>
                            </m:e>
                          </m:eqArr>
                        </m:e>
                      </m:mr>
                    </m:m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53" name="Picture 8" descr=""/>
          <p:cNvPicPr/>
          <p:nvPr/>
        </p:nvPicPr>
        <p:blipFill>
          <a:blip r:embed="rId2"/>
          <a:stretch/>
        </p:blipFill>
        <p:spPr>
          <a:xfrm>
            <a:off x="2000160" y="2857680"/>
            <a:ext cx="2357640" cy="24890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"/>
          <p:cNvPicPr/>
          <p:nvPr/>
        </p:nvPicPr>
        <p:blipFill>
          <a:blip r:embed="rId3"/>
          <a:stretch/>
        </p:blipFill>
        <p:spPr>
          <a:xfrm>
            <a:off x="1071720" y="4857840"/>
            <a:ext cx="807228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1"/>
          <p:cNvSpPr/>
          <p:nvPr/>
        </p:nvSpPr>
        <p:spPr>
          <a:xfrm>
            <a:off x="1785960" y="0"/>
            <a:ext cx="57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ример операций над графам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56800" y="64260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бъединение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2 -  граф с множеством вершин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            V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1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2, а множество ребер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Х=Х1 Х2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Содержимое 2"/>
          <p:cNvSpPr/>
          <p:nvPr/>
        </p:nvSpPr>
        <p:spPr>
          <a:xfrm>
            <a:off x="928800" y="1643040"/>
            <a:ext cx="82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оединение графов: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1+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2 состоит из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2 и всех ребер, соединяющих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1 и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Picture 22" descr=""/>
          <p:cNvPicPr/>
          <p:nvPr/>
        </p:nvPicPr>
        <p:blipFill>
          <a:blip r:embed="rId1"/>
          <a:stretch/>
        </p:blipFill>
        <p:spPr>
          <a:xfrm>
            <a:off x="1571760" y="2500200"/>
            <a:ext cx="5715000" cy="15433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3" descr=""/>
          <p:cNvPicPr/>
          <p:nvPr/>
        </p:nvPicPr>
        <p:blipFill>
          <a:blip r:embed="rId2"/>
          <a:stretch/>
        </p:blipFill>
        <p:spPr>
          <a:xfrm>
            <a:off x="6000840" y="4071960"/>
            <a:ext cx="1428840" cy="173520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31"/>
          <p:cNvSpPr/>
          <p:nvPr/>
        </p:nvSpPr>
        <p:spPr>
          <a:xfrm>
            <a:off x="4845600" y="5214960"/>
            <a:ext cx="13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+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Прямоугольник 32"/>
          <p:cNvSpPr/>
          <p:nvPr/>
        </p:nvSpPr>
        <p:spPr>
          <a:xfrm>
            <a:off x="1000080" y="585792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-  связный граф, то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nG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с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компонентами,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аждая из которых изоморфна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5:09:22Z</dcterms:created>
  <dc:creator>Admin</dc:creator>
  <dc:description/>
  <dc:language>en-US</dc:language>
  <cp:lastModifiedBy>Admin</cp:lastModifiedBy>
  <dcterms:modified xsi:type="dcterms:W3CDTF">2010-04-06T16:37:53Z</dcterms:modified>
  <cp:revision>13</cp:revision>
  <dc:subject/>
  <dc:title>Матрицы графов и их свойства.  </dc:title>
</cp:coreProperties>
</file>