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CEA-6E5A-476A-B8FF-7E4D8337A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ED96-2775-4D34-B957-CD4DE91AB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A932-9CE6-4362-ACEF-BB9FFA77E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240F-C4B2-4D6A-838A-B3CA43D5A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7EE-9F97-4EEB-B72E-A69BC0C75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2CC-66F6-4ECB-9652-D4609E70D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613D-87AB-4710-8D40-EF0CAB499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5A1-888D-4F09-83EB-645A6F966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4CA2-AA77-458C-A627-8C217FB9D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19A8-D7D7-4378-B2DE-6D17F6D23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4A71-6B71-4044-A1DE-AF5C5FE42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9030-CDCE-408E-8230-053B79DCE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BDA7-CBD6-4B67-9344-E5E4E3D13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3F8-A041-4CEF-81C4-D5082DB29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C38-736D-4E3C-97A6-672758AD6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B4BF-3D2A-44DE-905F-61D39082B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B325-49F5-44BD-BC02-FB76B6B54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C6E-7A30-4152-A28B-115B3EB54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ADD2-060A-4BE3-9273-48D1038B2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13FA-459E-4423-B0F1-FF5D30172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576A-E972-4233-A842-5E35E3DEC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771-FBC6-4AE6-8650-F256B2772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66A-6D69-4036-A6AB-576A9880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EA0-48B2-4079-B1C6-F731A83D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CF9-A92D-436C-ABCD-5B3A7440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9B5-0916-46E0-9843-E386B6EC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8F9-464B-44A9-A0AD-50346F8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3A0-FBF0-4B15-9526-CC93E87C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814-4167-4455-A36D-C2DD38EC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250-3FF6-4778-BE5B-03033AD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A9D-8847-40B4-A9C3-C2D2F3E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401-245C-4B96-8535-AFF09AE4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109-8018-413D-A7E1-25A5DBC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5B9-5EA2-4BCF-BDD2-A89B0DB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6C42-2A9F-4744-9E50-8601B0429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28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Raavi"/>
              </a:rPr>
              <a:t>Комбинатор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при составлении комбинаций из этих элементов известно, сколькими способами можно выбрать первый элемент, и сколькими второй. При этом число выбора второго элемента не зависит от числа выбора перв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авило произведе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первый элемент выбир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ами, втор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ами. Тогда пару можно выбр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*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бще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бираются не пары элементов, а комбинации из общего числа элементов, то приходим к задаче вида: сколько можно состав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ножеств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элем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-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две расстановки считаются различными, если хотя бы на одном месте стоят различные элементы. В этой ситуации име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1*n2*...*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ариа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ее решаются задачи, в которых число выбора каждого последующего шага зависит от выбор на предыдущем ша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сколькими способами из 28 костей домино можно выбрать 2 кости, чтобы их можно было приложить друг к д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Это можно сделать 28 способами, при этом 7 случаев выбора дубля, остальные 21 – различные числа. В первом случае 6 способов выбора второй кости, во втором – 12. По правилу произведения имеем 7*6=42 варианта выбора в первом случае, а во втором – 21*12=252 варианта. 42+252 = 294 варианта всего. Если не учитывать порядок выбора костей, то имеем 294/2=147 способов выбора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змещение без повт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можно составить размещений без повторений, если все входящие элементы различ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ся множество и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элементов. Сколько из этих элементов можно составить подмножеств, состоящих и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элементов? При этом подмножества различаются, если они отличаются хотя бы одним элементом. Получаем количество размещений: . На первом шаге име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ов, на втором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 пятом шаге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k+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бора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ичество элементов выбор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57160" y="5857920"/>
            <a:ext cx="5915160" cy="790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1247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. Имеется 25 человек. Из них нужно выбрать старосту, культурга и профорга. Сколькими способами можно это сделать, если каждый человек занимал лишь одну долж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                                  вариа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857680" y="3929040"/>
            <a:ext cx="4895640" cy="5716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ерестановки без повтор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.: Перестановки, в которые входят все элементы, но отличаются только порядком расположения. Такие перестановки называю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перестановки без повт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пределению, 0!=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. Сколькими способами можно разместить за столом 10 го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 Р10=10!=3628800 вариа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57160" y="3571920"/>
            <a:ext cx="126684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ерестановки с повтор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екоторые переставляемые элементы одинаковы, то некоторые перестановки будут совпадать друг с другом, и общее количество перестановок получится гораздо меньше, чем предполаг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28800" y="4572000"/>
            <a:ext cx="53578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чет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ислом сочетан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&gt;=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называется велич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28800" y="2786040"/>
            <a:ext cx="6286320" cy="1071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429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1000080" y="5000760"/>
            <a:ext cx="543888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четания с повторен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ся предмет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ных типов. Скольк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омбинаций можно из них сделать, если не принимать во внимание порядок комбина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000080" y="3929040"/>
            <a:ext cx="4876920" cy="10857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1542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войства сочет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2000520" cy="642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571840" y="2214720"/>
            <a:ext cx="21240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6000480" cy="714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4"/>
          <a:stretch/>
        </p:blipFill>
        <p:spPr>
          <a:xfrm>
            <a:off x="1357200" y="4000680"/>
            <a:ext cx="3143520" cy="571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"/>
          <p:cNvPicPr/>
          <p:nvPr/>
        </p:nvPicPr>
        <p:blipFill>
          <a:blip r:embed="rId5"/>
          <a:stretch/>
        </p:blipFill>
        <p:spPr>
          <a:xfrm>
            <a:off x="4286160" y="4572000"/>
            <a:ext cx="3894120" cy="642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6"/>
          <a:stretch/>
        </p:blipFill>
        <p:spPr>
          <a:xfrm>
            <a:off x="642960" y="5214960"/>
            <a:ext cx="4038480" cy="676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7"/>
          <a:stretch/>
        </p:blipFill>
        <p:spPr>
          <a:xfrm>
            <a:off x="4714920" y="5214960"/>
            <a:ext cx="412416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"/>
          <p:cNvPicPr/>
          <p:nvPr/>
        </p:nvPicPr>
        <p:blipFill>
          <a:blip r:embed="rId8"/>
          <a:stretch/>
        </p:blipFill>
        <p:spPr>
          <a:xfrm>
            <a:off x="642960" y="5857920"/>
            <a:ext cx="2228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orte"/>
              </a:rPr>
              <a:t>Основные понятия комбинато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онятиями комбинаторик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авило сумм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авило произвед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танов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естанов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ме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че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ывается методом математической ин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357200" y="428760"/>
            <a:ext cx="4915080" cy="552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1428840" y="2071800"/>
            <a:ext cx="57862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 формулы 4 выводятся со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5077080" cy="100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1357200" y="3000240"/>
            <a:ext cx="6929640" cy="1000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3"/>
          <a:stretch/>
        </p:blipFill>
        <p:spPr>
          <a:xfrm>
            <a:off x="1357200" y="4286160"/>
            <a:ext cx="657252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1143000" y="5072040"/>
            <a:ext cx="4714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0"/>
          <p:cNvSpPr/>
          <p:nvPr/>
        </p:nvSpPr>
        <p:spPr>
          <a:xfrm>
            <a:off x="2627280" y="476280"/>
            <a:ext cx="3384720" cy="720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новк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лем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1116000" y="1844640"/>
            <a:ext cx="1871640" cy="863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2"/>
          <p:cNvSpPr/>
          <p:nvPr/>
        </p:nvSpPr>
        <p:spPr>
          <a:xfrm>
            <a:off x="3564000" y="1844640"/>
            <a:ext cx="1871640" cy="863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5867280" y="1844640"/>
            <a:ext cx="1871640" cy="863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395280" y="4797360"/>
            <a:ext cx="1655640" cy="115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1908000" y="3429000"/>
            <a:ext cx="1584360" cy="1152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втор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3276720" y="4941720"/>
            <a:ext cx="1439640" cy="115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4859280" y="3500280"/>
            <a:ext cx="1441440" cy="115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6300720" y="5013360"/>
            <a:ext cx="1440000" cy="1152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7380360" y="3573360"/>
            <a:ext cx="1439640" cy="115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0"/>
          <p:cNvSpPr/>
          <p:nvPr/>
        </p:nvSpPr>
        <p:spPr>
          <a:xfrm flipH="1">
            <a:off x="2555640" y="119700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1"/>
          <p:cNvSpPr/>
          <p:nvPr/>
        </p:nvSpPr>
        <p:spPr>
          <a:xfrm>
            <a:off x="435600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2"/>
          <p:cNvSpPr/>
          <p:nvPr/>
        </p:nvSpPr>
        <p:spPr>
          <a:xfrm>
            <a:off x="4932360" y="1197000"/>
            <a:ext cx="136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3"/>
          <p:cNvSpPr/>
          <p:nvPr/>
        </p:nvSpPr>
        <p:spPr>
          <a:xfrm flipH="1">
            <a:off x="1258560" y="2708280"/>
            <a:ext cx="576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4"/>
          <p:cNvSpPr/>
          <p:nvPr/>
        </p:nvSpPr>
        <p:spPr>
          <a:xfrm>
            <a:off x="2268360" y="2708280"/>
            <a:ext cx="2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5"/>
          <p:cNvSpPr/>
          <p:nvPr/>
        </p:nvSpPr>
        <p:spPr>
          <a:xfrm flipH="1">
            <a:off x="3924360" y="2708280"/>
            <a:ext cx="50328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6"/>
          <p:cNvSpPr/>
          <p:nvPr/>
        </p:nvSpPr>
        <p:spPr>
          <a:xfrm>
            <a:off x="4932360" y="270828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7"/>
          <p:cNvSpPr/>
          <p:nvPr/>
        </p:nvSpPr>
        <p:spPr>
          <a:xfrm flipH="1">
            <a:off x="6732720" y="2708280"/>
            <a:ext cx="7128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>
            <a:off x="7164360" y="2708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.: Область математики, в которой изучаются вопросы о том, сколько различных комбинаций можно составить из заданных объектов,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мбинатор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комбинаторики очень тесно связаны с задачами линейного програм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сколько можно составить трехзначных номеров, не содержащих ну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 составляю девять однозначных номеров: 1,2,..,9. Если взять набор из 10 цифр, написать любую из 9 кроме 0, то из каждого однозначного получится 9 двузначных: 9*9=81 двухместный номер. Тогда 81*9=729 трехзначных номеров без повт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азмещение с повтор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.: Пусть имеется множество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элементов. Из него выбираем подмножества, состоящие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элементов. При этом  подмножества могут отличаться как самими элементами, так и порядком расположения элементов относительно друг друга. Назовем выбор таких подмножеств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размещением с повторениями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ение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6786720" y="5429160"/>
            <a:ext cx="1438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 для запирания сейфов в автоматических замках набирается секретное слово. Пусть имеется 12 букв, а секретное слово состоит из 5 букв. Сколько неудачных попыток можно совершить, не зная к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                      . следовательно, неудачных попыток можно совершить 2488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714760" y="4357800"/>
            <a:ext cx="25146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бщие правила комбина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задач комбинаторики сводятся к решению с помощью правила суммы и правила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авило суммы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все известные комбинации разбиваются на классы, причем каждая комбинация входит только в один класс. В этом случае общее число комбинаций равно сумме чисел комбинаций во всех класс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 если некоторый объект 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пособами, а В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пособами, то выбор либо А, либо В можно соверш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+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пособами. При этом важно, чтобы комбинации не совпадали. Если такие совпадения есть, 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+n-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исло выбора, г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совпа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28:48Z</dcterms:created>
  <dc:creator>XTreme</dc:creator>
  <dc:description/>
  <dc:language>en-US</dc:language>
  <cp:lastModifiedBy>Евгений</cp:lastModifiedBy>
  <dcterms:modified xsi:type="dcterms:W3CDTF">2010-10-14T09:32:22Z</dcterms:modified>
  <cp:revision>18</cp:revision>
  <dc:subject/>
  <dc:title>Слайд 1</dc:title>
</cp:coreProperties>
</file>