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994-0538-48BB-A446-5E76CD88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5E9-56A7-4639-A128-6CA0357A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1ED-CA23-498D-A6EE-973AE614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022-8D45-4AC8-B31B-01FD282F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98C-9216-4ACB-A355-8991A82C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47E-2AE5-4A4E-89BB-770DE9B2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3DC-6489-468C-A869-4013C480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9F4-B71E-446D-9797-504FC041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96A-7956-40A4-890D-CA45213B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DE3-BA49-40CF-BF71-6C3FE0D6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37F-CEAE-448E-8B47-3FC87E0D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2EF-521A-4636-942F-D0814203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E9DF-A532-4857-8ED9-7A117DF25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0.jpeg"/><Relationship Id="rId4" Type="http://schemas.openxmlformats.org/officeDocument/2006/relationships/image" Target="../media/image3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image" Target="../media/image34.jpeg"/><Relationship Id="rId19" Type="http://schemas.openxmlformats.org/officeDocument/2006/relationships/image" Target="../media/image35.jpeg"/><Relationship Id="rId20" Type="http://schemas.openxmlformats.org/officeDocument/2006/relationships/image" Target="../media/image36.jpeg"/><Relationship Id="rId21" Type="http://schemas.openxmlformats.org/officeDocument/2006/relationships/image" Target="../media/image37.jpeg"/><Relationship Id="rId22" Type="http://schemas.openxmlformats.org/officeDocument/2006/relationships/image" Target="../media/image38.jpeg"/><Relationship Id="rId23" Type="http://schemas.openxmlformats.org/officeDocument/2006/relationships/image" Target="../media/image39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а нахождения критического пути в граф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а нахождения критического, (т. е. длиннейшего) пути в графе ― это задача, связанная с загрузкой станочного оборудования, сборки многозвенных изделий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тевой график – необходимый элемент сложного производства, состоящего из нескольких связанных и зависящих друг от друга этапов. Выявление критического пути и временных резервов производства – основная задача, решаемая построением сетевого графика. Такие задачи могут быть представлены в виде графа и в виде отображающей его таблицы. Для нахождения критического пути (последовательности этапов работы, определяющих длительность всего проекта и не имеющих резерва по времени) применяются вычислительные методы. Одним из таких методов является табличный метод и применяется для данных, представленных в вид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а автоматизации расчёта сетевого графика является достаточно актуальной и важной. Вычисление критического пути с помощью ЭВМ поможет в несколько раз ускорить этот процесс, а при больших графиках – во много раз. Поэтому автоматизация расчёта сетевого графика может иметь большую практическую поль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 нахождения длиннейшего пути в графе похож на алгоритм нахождения кротчайшего пути в графе (алгоритм Дикстры). Вместо кротчайших ребер в алгоритме нахождения кратчайшего пути выбираются длиннейш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решения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числение времени раннего начала работ каждого вида – минимального срока начала работы, считая от начал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числение времени раннего завершения работ каждого вида – минимального срока завершения работы, считая от начал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числение времени позднего начала работ каждого вида – максимального срока начала работы, считая от начал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числение времени позднего завершения работ каждого вида – максимального срока завершения работы, считая от начал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числение полного резерва работ каждого вида – максимального запаса времени, на которое можно отсрочить начало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буется найти такой путь на графе, который бы имел максимальную длину по сравнению со всеми возможными путями для данного гра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существует ориентированный граф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з цикло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ёбра графа — выполнение работы. Рёбра имеют длину, обозначающую продолжительность работы и направление, обозначающее последовательность выполнение работы. Вершины — это факт начала и окончания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, 3) — ребро с весом (длительностью работы) 6. 1 — начало работы. 3 — конец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бро (2, 4) — фиктивная работа нулевой дл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56000" y="836640"/>
            <a:ext cx="4464000" cy="2373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16360" y="3068640"/>
            <a:ext cx="3816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362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2360" y="3068640"/>
            <a:ext cx="40384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362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иболее ранний срок начала работы для вер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иболее ранний срок окончания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ксимальное время задержки между выполнениями рабо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217440" cy="36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508720" y="3573360"/>
            <a:ext cx="268200" cy="3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115272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аф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4392720" cy="2334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36716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е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ршин 5 и 6. Путь вычисляем в направлении дуг гра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вершину 5 можно попасть 3 пут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{1, 3, 5} 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11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общая д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, 2, 4, 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, 4, 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(11, 13, 16) 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вершину 6 можно попасть 3 пут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}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, 2, 4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}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}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x(13, 10 ,12)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ются оценками максимального пути для соответствующих вершин. Опираясь на уже полученные оценки, последовательно идем от вершины к вершине, выбирая максималь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03200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261720" cy="43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16360" y="2421000"/>
            <a:ext cx="40388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числяем максимальные пути для остальных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7 (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16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им, что весь объем планируемых работ выполнен не ранее чем за 30 единиц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49240" y="1446120"/>
            <a:ext cx="34128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79480" y="2036880"/>
            <a:ext cx="287280" cy="239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826920" y="2276640"/>
            <a:ext cx="317520" cy="268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826920" y="2548080"/>
            <a:ext cx="1081080" cy="436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900000" y="3429000"/>
            <a:ext cx="341280" cy="36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900000" y="3789360"/>
            <a:ext cx="287280" cy="239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900000" y="4076640"/>
            <a:ext cx="317520" cy="268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912960" y="4343400"/>
            <a:ext cx="1008000" cy="446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835200" y="4702320"/>
            <a:ext cx="479160" cy="30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5095800" y="3029040"/>
            <a:ext cx="19692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5076720" y="3357720"/>
            <a:ext cx="209520" cy="358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5148360" y="4653000"/>
            <a:ext cx="144360" cy="28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5100480" y="3708360"/>
            <a:ext cx="177840" cy="287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5148360" y="4005360"/>
            <a:ext cx="168120" cy="290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7"/>
          <a:stretch/>
        </p:blipFill>
        <p:spPr>
          <a:xfrm>
            <a:off x="5796000" y="4076640"/>
            <a:ext cx="177840" cy="28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8"/>
          <a:stretch/>
        </p:blipFill>
        <p:spPr>
          <a:xfrm>
            <a:off x="6516720" y="4076640"/>
            <a:ext cx="181080" cy="314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9"/>
          <a:stretch/>
        </p:blipFill>
        <p:spPr>
          <a:xfrm>
            <a:off x="5148360" y="4365720"/>
            <a:ext cx="15696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43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вычисли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й верш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наиболее поздний срок начала выполнения работы,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наиболее поздний срок окончания работы, а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длина дуги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дем от начала графа к его началу, против направления д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min (18, 20) = 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min (30 − 14) =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min (7, 12) =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min (16 − 5) =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min (7, 10) =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min (5, 0, 3)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им  — максимальное время задержки между выполнениями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032000" cy="214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59280" y="5373720"/>
            <a:ext cx="86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421000"/>
            <a:ext cx="4392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но, что резерв работ (1, 4), (4, 5), (5, 8) = 0. Т.е. всякая задержка или увеличение длительности работ приводит к увеличению срока завершения всех работ. Такие работы называются критическими. Эти работы — цепочки дуг соединяющие начальную и конечную вершину графа. Путь их соединяющий называется критическим пу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так нахождение критического пути в графе это одна из основных задач сетевого планирования и управления. Нахождение критического пути в графе позволяет установить научно обоснованное выполнени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33760" y="404640"/>
            <a:ext cx="252360" cy="34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986360" y="4448160"/>
            <a:ext cx="3716280" cy="311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059280" y="830160"/>
            <a:ext cx="271440" cy="366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42920" y="907920"/>
            <a:ext cx="1457280" cy="25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700360" y="1341360"/>
            <a:ext cx="228600" cy="290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995640" y="1568520"/>
            <a:ext cx="22068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900000" y="2487600"/>
            <a:ext cx="212760" cy="290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628560" y="2776680"/>
            <a:ext cx="1852560" cy="30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611280" y="3075120"/>
            <a:ext cx="2428920" cy="25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903240" y="3527280"/>
            <a:ext cx="203400" cy="285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914400" y="3666960"/>
            <a:ext cx="204840" cy="258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3"/>
          <a:stretch/>
        </p:blipFill>
        <p:spPr>
          <a:xfrm>
            <a:off x="900000" y="3938760"/>
            <a:ext cx="204840" cy="258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900000" y="4390920"/>
            <a:ext cx="204840" cy="27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900000" y="46990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900000" y="5446800"/>
            <a:ext cx="1181160" cy="27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900000" y="5729400"/>
            <a:ext cx="1224000" cy="241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905040" y="6018120"/>
            <a:ext cx="1223640" cy="25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900000" y="6261120"/>
            <a:ext cx="266760" cy="279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0"/>
          <a:stretch/>
        </p:blipFill>
        <p:spPr>
          <a:xfrm>
            <a:off x="2843280" y="5407200"/>
            <a:ext cx="25380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1"/>
          <a:stretch/>
        </p:blipFill>
        <p:spPr>
          <a:xfrm>
            <a:off x="2843280" y="5707080"/>
            <a:ext cx="239760" cy="262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2"/>
          <a:stretch/>
        </p:blipFill>
        <p:spPr>
          <a:xfrm>
            <a:off x="2843280" y="5994360"/>
            <a:ext cx="25380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3"/>
          <a:stretch/>
        </p:blipFill>
        <p:spPr>
          <a:xfrm>
            <a:off x="2843280" y="6299280"/>
            <a:ext cx="27936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5:29:30Z</dcterms:created>
  <dc:creator>Сталевар</dc:creator>
  <dc:description/>
  <dc:language>en-US</dc:language>
  <cp:lastModifiedBy>Сталевар</cp:lastModifiedBy>
  <dcterms:modified xsi:type="dcterms:W3CDTF">2009-05-14T17:52:25Z</dcterms:modified>
  <cp:revision>11</cp:revision>
  <dc:subject/>
  <dc:title>Слайд 1</dc:title>
</cp:coreProperties>
</file>