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2D2-22B8-4807-B869-EC5DF101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ECB-F02E-43F0-8173-7D05141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F5D-1978-4216-AAA9-315F41FE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7E2-66C6-4A1F-8F7F-1BBD623E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0A9-3CFC-44F9-87FA-46F6D02F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070-9966-41B6-8515-0997674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AA3-1829-4B21-BF57-E0E99D7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411-A99A-427A-A948-F46C8C30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ED5-6519-4469-B155-4AB454C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87E-D253-4FDA-91ED-177FB38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CB1-8819-47E8-B619-AF42093E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AAD-678D-48EC-A332-CD48BB5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9EE-CEE2-48CB-B891-63C909F3F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052640"/>
            <a:ext cx="6481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Дискретная математика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349360"/>
            <a:ext cx="417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Теория графо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27280" y="371628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Comic Sans MS"/>
              </a:rPr>
              <a:t>Матрицы на графах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58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900000" y="508428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08464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547640" y="5084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5084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187280" y="558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26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8000" y="474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400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1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728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236600">
            <a:off x="7410240" y="2781000"/>
            <a:ext cx="93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20538000">
            <a:off x="822240" y="252720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61795E-006 L -0.37518 -0.60615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61795E-006 L -0.36719 -0.55388 E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61795E-006 L -0.35938 -0.38598 E"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619280" y="620640"/>
            <a:ext cx="489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Свойства матриц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052360" y="1916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8520" y="1341360"/>
            <a:ext cx="68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84720" y="2133720"/>
            <a:ext cx="718920" cy="574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03640" y="2133720"/>
            <a:ext cx="720720" cy="7189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2708280"/>
            <a:ext cx="1439640" cy="1443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84720" y="2708280"/>
            <a:ext cx="934920" cy="5047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213000"/>
            <a:ext cx="73080" cy="7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7692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8672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1036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7400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42120" y="36450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рица инциденции ориентированного гра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41640" y="4292640"/>
            <a:ext cx="861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4076640"/>
            <a:ext cx="2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9960" y="4221000"/>
            <a:ext cx="44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дуг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ыходит из верши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040" y="458136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сли дуга входит в вершин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1960" y="49417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остальных слу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92360" y="5516640"/>
            <a:ext cx="503280" cy="4334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95640" y="5373360"/>
            <a:ext cx="647640" cy="1429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3280" y="5373720"/>
            <a:ext cx="144360" cy="6476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2195640" y="5516640"/>
            <a:ext cx="792000" cy="5047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340000" y="5373360"/>
            <a:ext cx="503280" cy="6476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8636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7836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2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764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9440" y="50846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8720" y="55166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21080" y="59500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69080" y="5392800"/>
            <a:ext cx="147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0 -1 0 0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 1 0 -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-1 1 0 -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0  0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0  0 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413000"/>
            <a:ext cx="71640" cy="1224000"/>
          </a:xfrm>
          <a:custGeom>
            <a:avLst/>
            <a:gdLst/>
            <a:ahLst/>
            <a:rect l="l" t="t" r="r" b="b"/>
            <a:pathLst>
              <a:path w="45" h="771">
                <a:moveTo>
                  <a:pt x="45" y="0"/>
                </a:moveTo>
                <a:cubicBezTo>
                  <a:pt x="22" y="140"/>
                  <a:pt x="0" y="280"/>
                  <a:pt x="0" y="408"/>
                </a:cubicBezTo>
                <a:cubicBezTo>
                  <a:pt x="0" y="536"/>
                  <a:pt x="22" y="653"/>
                  <a:pt x="45" y="77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1413000"/>
            <a:ext cx="73080" cy="1224000"/>
          </a:xfrm>
          <a:custGeom>
            <a:avLst/>
            <a:gdLst/>
            <a:ahLst/>
            <a:rect l="l" t="t" r="r" b="b"/>
            <a:pathLst>
              <a:path w="46" h="771">
                <a:moveTo>
                  <a:pt x="0" y="0"/>
                </a:moveTo>
                <a:cubicBezTo>
                  <a:pt x="23" y="140"/>
                  <a:pt x="46" y="280"/>
                  <a:pt x="46" y="408"/>
                </a:cubicBezTo>
                <a:cubicBezTo>
                  <a:pt x="46" y="536"/>
                  <a:pt x="8" y="711"/>
                  <a:pt x="0" y="77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5445000"/>
            <a:ext cx="142920" cy="1297080"/>
          </a:xfrm>
          <a:custGeom>
            <a:avLst/>
            <a:gdLst/>
            <a:ahLst/>
            <a:rect l="l" t="t" r="r" b="b"/>
            <a:pathLst>
              <a:path w="90" h="817">
                <a:moveTo>
                  <a:pt x="90" y="0"/>
                </a:moveTo>
                <a:cubicBezTo>
                  <a:pt x="45" y="113"/>
                  <a:pt x="0" y="227"/>
                  <a:pt x="0" y="363"/>
                </a:cubicBezTo>
                <a:cubicBezTo>
                  <a:pt x="0" y="499"/>
                  <a:pt x="45" y="658"/>
                  <a:pt x="90" y="8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5516640"/>
            <a:ext cx="156960" cy="1225440"/>
          </a:xfrm>
          <a:custGeom>
            <a:avLst/>
            <a:gdLst/>
            <a:ahLst/>
            <a:rect l="l" t="t" r="r" b="b"/>
            <a:pathLst>
              <a:path w="99" h="772">
                <a:moveTo>
                  <a:pt x="46" y="0"/>
                </a:moveTo>
                <a:cubicBezTo>
                  <a:pt x="72" y="140"/>
                  <a:pt x="99" y="280"/>
                  <a:pt x="91" y="409"/>
                </a:cubicBezTo>
                <a:cubicBezTo>
                  <a:pt x="83" y="538"/>
                  <a:pt x="41" y="655"/>
                  <a:pt x="0" y="7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mb dir="horz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4532 -0.32301 E">
                                      <p:cBhvr>
                                        <p:cTn id="127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104 L -0.38299 -0.6481 E">
                                      <p:cBhvr>
                                        <p:cTn id="127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26493 -0.24948 E">
                                      <p:cBhvr>
                                        <p:cTn id="1365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1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31250"/>
                            </p:stCondLst>
                            <p:childTnLst>
                              <p:par>
                                <p:cTn id="15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31750"/>
                            </p:stCondLst>
                            <p:childTnLst>
                              <p:par>
                                <p:cTn id="15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2250"/>
                            </p:stCondLst>
                            <p:childTnLst>
                              <p:par>
                                <p:cTn id="15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436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8101080" y="5444640"/>
            <a:ext cx="35856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mb dir="horz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87283E-006 L -0.7875 -0.1207 E">
                                      <p:cBhvr>
                                        <p:cTn id="157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19564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С - матрица цик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5564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8101080" y="5444640"/>
            <a:ext cx="35856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62840" y="213372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рица циклов связывает циклы и реб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16360" y="2781360"/>
            <a:ext cx="934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9440" y="249228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9440" y="270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ребр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ходит в цик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3960" y="3141720"/>
            <a:ext cx="27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противном случ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4076640"/>
            <a:ext cx="360360" cy="5047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19640" y="4076640"/>
            <a:ext cx="936360" cy="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84720" y="4076640"/>
            <a:ext cx="71280" cy="5047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80000" y="4581360"/>
            <a:ext cx="504720" cy="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284720" y="4292640"/>
            <a:ext cx="431640" cy="2887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4076640"/>
            <a:ext cx="360360" cy="21600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19280" y="3716280"/>
            <a:ext cx="431640" cy="36036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1280" y="3716280"/>
            <a:ext cx="504720" cy="360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076640"/>
            <a:ext cx="865080" cy="504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700360" y="4221000"/>
            <a:ext cx="12952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67720" y="4005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924360" y="3716280"/>
            <a:ext cx="503280" cy="217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3448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427640" y="3860640"/>
            <a:ext cx="358560" cy="43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44080" y="3645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508640"/>
            <a:ext cx="0" cy="28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7720" y="486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916000" y="3715920"/>
            <a:ext cx="934920" cy="576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42240" y="3521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4292640"/>
            <a:ext cx="936360" cy="36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31720" y="4437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78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815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3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0556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652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10280" y="45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25800" y="5516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21320" y="5013360"/>
            <a:ext cx="380052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,2)(1,3)(1,5)(1,6)(2,3)(3,4)(3,5)(4,5)(5,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   0      0     1     1      1     0      1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1      0     0     1      0     0      0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0      0     0     0      1     1      1    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0      1     1     0      0     0      0   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0     1     0      0     1      0   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1     0     1      0     1      0     0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6720" y="3716280"/>
            <a:ext cx="34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сегда, если име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раф, можно постро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атрицу, но нельзя наобор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5157720"/>
            <a:ext cx="215640" cy="1366920"/>
          </a:xfrm>
          <a:custGeom>
            <a:avLst/>
            <a:gdLst/>
            <a:ahLst/>
            <a:rect l="l" t="t" r="r" b="b"/>
            <a:pathLst>
              <a:path w="188" h="861">
                <a:moveTo>
                  <a:pt x="188" y="0"/>
                </a:moveTo>
                <a:cubicBezTo>
                  <a:pt x="101" y="155"/>
                  <a:pt x="14" y="310"/>
                  <a:pt x="7" y="453"/>
                </a:cubicBezTo>
                <a:cubicBezTo>
                  <a:pt x="0" y="596"/>
                  <a:pt x="71" y="728"/>
                  <a:pt x="143" y="8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8360" y="5229360"/>
            <a:ext cx="144360" cy="1295280"/>
          </a:xfrm>
          <a:custGeom>
            <a:avLst/>
            <a:gdLst/>
            <a:ahLst/>
            <a:rect l="l" t="t" r="r" b="b"/>
            <a:pathLst>
              <a:path w="91" h="816">
                <a:moveTo>
                  <a:pt x="0" y="0"/>
                </a:moveTo>
                <a:cubicBezTo>
                  <a:pt x="45" y="159"/>
                  <a:pt x="91" y="318"/>
                  <a:pt x="91" y="454"/>
                </a:cubicBezTo>
                <a:cubicBezTo>
                  <a:pt x="91" y="590"/>
                  <a:pt x="45" y="703"/>
                  <a:pt x="0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mb dir="horz"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87283E-006 L -0.7875 -0.1207 E">
                                      <p:cBhvr>
                                        <p:cTn id="1623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4624E-006 L -0.64184 -0.70265 E">
                                      <p:cBhvr>
                                        <p:cTn id="163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8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564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2000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5313 -0.52231 E">
                                      <p:cBhvr>
                                        <p:cTn id="11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64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A - матрица сме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844640"/>
            <a:ext cx="5688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Comic Sans MS"/>
              </a:rPr>
              <a:t>А=</a:t>
            </a: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||a</a:t>
            </a:r>
            <a:r>
              <a:rPr b="1" lang="en-US" sz="7200" spc="-1" strike="noStrike" baseline="-25000">
                <a:solidFill>
                  <a:srgbClr val="cc0000"/>
                </a:solidFill>
                <a:latin typeface="Comic Sans MS"/>
              </a:rPr>
              <a:t>ij</a:t>
            </a: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||n,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22800" y="4005360"/>
            <a:ext cx="835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3080" y="371628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73640" y="38815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цидентн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47080" y="4384800"/>
            <a:ext cx="27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противном случ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mb dir="horz"/>
    <p:sndAc>
      <p:stSnd>
        <p:snd r:embed="rId2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61927 -0.6585 E">
                                      <p:cBhvr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28056 -0.40694 E">
                                      <p:cBhvr>
                                        <p:cTn id="18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292428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47628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взаимнооднозначное соответствие между граф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их матрицами смежности, которая определяет граф с точностью до изоморф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65300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84360" y="4005000"/>
            <a:ext cx="57492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4005360"/>
            <a:ext cx="865080" cy="1008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58920" y="4076640"/>
            <a:ext cx="865080" cy="1368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005360"/>
            <a:ext cx="0" cy="1439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360360" cy="576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764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34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600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7692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200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7836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3800" y="4508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4520" y="39337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9240" y="3933720"/>
            <a:ext cx="93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005360"/>
            <a:ext cx="215640" cy="1584360"/>
          </a:xfrm>
          <a:custGeom>
            <a:avLst/>
            <a:gdLst/>
            <a:ahLst/>
            <a:rect l="l" t="t" r="r" b="b"/>
            <a:pathLst>
              <a:path w="136" h="998">
                <a:moveTo>
                  <a:pt x="0" y="0"/>
                </a:moveTo>
                <a:cubicBezTo>
                  <a:pt x="68" y="189"/>
                  <a:pt x="136" y="378"/>
                  <a:pt x="136" y="544"/>
                </a:cubicBezTo>
                <a:cubicBezTo>
                  <a:pt x="136" y="710"/>
                  <a:pt x="68" y="854"/>
                  <a:pt x="0" y="9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4005360"/>
            <a:ext cx="216000" cy="1584360"/>
          </a:xfrm>
          <a:custGeom>
            <a:avLst/>
            <a:gdLst/>
            <a:ahLst/>
            <a:rect l="l" t="t" r="r" b="b"/>
            <a:pathLst>
              <a:path w="136" h="998">
                <a:moveTo>
                  <a:pt x="136" y="0"/>
                </a:moveTo>
                <a:cubicBezTo>
                  <a:pt x="68" y="143"/>
                  <a:pt x="0" y="287"/>
                  <a:pt x="0" y="453"/>
                </a:cubicBezTo>
                <a:cubicBezTo>
                  <a:pt x="0" y="619"/>
                  <a:pt x="113" y="907"/>
                  <a:pt x="136" y="9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6094 -0.32301 E">
                                      <p:cBhvr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6.4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55"/>
                            </p:stCondLst>
                            <p:childTnLst>
                              <p:par>
                                <p:cTn id="2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33577 -0.59561 E">
                                      <p:cBhvr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55"/>
                            </p:stCondLst>
                            <p:childTnLst>
                              <p:par>
                                <p:cTn id="2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55"/>
                            </p:stCondLst>
                            <p:childTnLst>
                              <p:par>
                                <p:cTn id="2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55"/>
                            </p:stCondLst>
                            <p:childTnLst>
                              <p:par>
                                <p:cTn id="2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55"/>
                            </p:stCondLst>
                            <p:childTnLst>
                              <p:par>
                                <p:cTn id="2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55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055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055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055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055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7055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7055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7055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55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7555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55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8555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55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292428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19280" y="620640"/>
            <a:ext cx="489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Свойства матриц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62864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главной диагонали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рица - симмет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единиц в строке или столбце равно степени вер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36450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82720" y="3160800"/>
            <a:ext cx="8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79640" y="494172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50920" y="4724280"/>
            <a:ext cx="576360" cy="217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724280"/>
            <a:ext cx="576360" cy="649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79640" y="5373720"/>
            <a:ext cx="1224000" cy="287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00360" y="5373720"/>
            <a:ext cx="503280" cy="360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79280" y="4724280"/>
            <a:ext cx="64764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4941720"/>
            <a:ext cx="1152720" cy="43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18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4492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564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1000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8636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11640" y="4723920"/>
            <a:ext cx="647640" cy="289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724280"/>
            <a:ext cx="649440" cy="360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59280" y="5084640"/>
            <a:ext cx="649440" cy="3589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5013360"/>
            <a:ext cx="647640" cy="431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5445000"/>
            <a:ext cx="6494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4724280"/>
            <a:ext cx="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5013360"/>
            <a:ext cx="1297080" cy="7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0564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97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128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90000" y="53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55166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44840" y="3213000"/>
            <a:ext cx="226800" cy="1295640"/>
          </a:xfrm>
          <a:custGeom>
            <a:avLst/>
            <a:gdLst/>
            <a:ahLst/>
            <a:rect l="l" t="t" r="r" b="b"/>
            <a:pathLst>
              <a:path w="143" h="816">
                <a:moveTo>
                  <a:pt x="98" y="0"/>
                </a:moveTo>
                <a:cubicBezTo>
                  <a:pt x="49" y="136"/>
                  <a:pt x="0" y="272"/>
                  <a:pt x="7" y="408"/>
                </a:cubicBezTo>
                <a:cubicBezTo>
                  <a:pt x="14" y="544"/>
                  <a:pt x="78" y="680"/>
                  <a:pt x="143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213000"/>
            <a:ext cx="228600" cy="129564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0" y="0"/>
                </a:moveTo>
                <a:cubicBezTo>
                  <a:pt x="64" y="113"/>
                  <a:pt x="128" y="227"/>
                  <a:pt x="136" y="363"/>
                </a:cubicBezTo>
                <a:cubicBezTo>
                  <a:pt x="144" y="499"/>
                  <a:pt x="61" y="741"/>
                  <a:pt x="46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6094 -0.32301 E">
                                      <p:cBhvr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33577 -0.66914 E">
                                      <p:cBhvr>
                                        <p:cTn id="36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600"/>
                            </p:stCondLst>
                            <p:childTnLst>
                              <p:par>
                                <p:cTn id="3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600"/>
                            </p:stCondLst>
                            <p:childTnLst>
                              <p:par>
                                <p:cTn id="3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60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660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600"/>
                            </p:stCondLst>
                            <p:childTnLst>
                              <p:par>
                                <p:cTn id="4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86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8600"/>
                            </p:stCondLst>
                            <p:childTnLst>
                              <p:par>
                                <p:cTn id="4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910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96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96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6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96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6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6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600"/>
                            </p:stCondLst>
                            <p:childTnLst>
                              <p:par>
                                <p:cTn id="4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600"/>
                            </p:stCondLst>
                            <p:childTnLst>
                              <p:par>
                                <p:cTn id="4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600"/>
                            </p:stCondLst>
                            <p:childTnLst>
                              <p:par>
                                <p:cTn id="4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2600"/>
                            </p:stCondLst>
                            <p:childTnLst>
                              <p:par>
                                <p:cTn id="4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600"/>
                            </p:stCondLst>
                            <p:childTnLst>
                              <p:par>
                                <p:cTn id="4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460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600"/>
                            </p:stCondLst>
                            <p:childTnLst>
                              <p:par>
                                <p:cTn id="4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66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66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66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66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66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116000" y="836280"/>
            <a:ext cx="86364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115640" y="1483920"/>
            <a:ext cx="1655640" cy="360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195640" y="1844640"/>
            <a:ext cx="576000" cy="50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979640" y="836640"/>
            <a:ext cx="216000" cy="1512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547640" y="836640"/>
            <a:ext cx="432000" cy="1225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000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18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3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2600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61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49640" y="14320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2520" y="9079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6520" y="907920"/>
            <a:ext cx="8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924280"/>
            <a:ext cx="115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5080" y="263700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01040" y="2852640"/>
            <a:ext cx="44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га выходит и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ходит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1240" y="33577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остальных слу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60360" y="42210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6520" y="3789360"/>
            <a:ext cx="6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4365720"/>
            <a:ext cx="79056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797360"/>
            <a:ext cx="1511280" cy="216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4797360"/>
            <a:ext cx="72072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076720" y="5013360"/>
            <a:ext cx="79056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4797360"/>
            <a:ext cx="720720" cy="684360"/>
          </a:xfrm>
          <a:custGeom>
            <a:avLst/>
            <a:gdLst/>
            <a:ahLst/>
            <a:rect l="l" t="t" r="r" b="b"/>
            <a:pathLst>
              <a:path w="454" h="431">
                <a:moveTo>
                  <a:pt x="454" y="408"/>
                </a:moveTo>
                <a:cubicBezTo>
                  <a:pt x="310" y="419"/>
                  <a:pt x="167" y="431"/>
                  <a:pt x="91" y="363"/>
                </a:cubicBezTo>
                <a:cubicBezTo>
                  <a:pt x="15" y="295"/>
                  <a:pt x="15" y="60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4687920"/>
            <a:ext cx="1440000" cy="325440"/>
          </a:xfrm>
          <a:custGeom>
            <a:avLst/>
            <a:gdLst/>
            <a:ahLst/>
            <a:rect l="l" t="t" r="r" b="b"/>
            <a:pathLst>
              <a:path w="907" h="205">
                <a:moveTo>
                  <a:pt x="907" y="205"/>
                </a:moveTo>
                <a:cubicBezTo>
                  <a:pt x="824" y="125"/>
                  <a:pt x="741" y="46"/>
                  <a:pt x="590" y="23"/>
                </a:cubicBezTo>
                <a:cubicBezTo>
                  <a:pt x="439" y="0"/>
                  <a:pt x="98" y="61"/>
                  <a:pt x="0" y="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5445000"/>
            <a:ext cx="21600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005360"/>
            <a:ext cx="216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4365720"/>
            <a:ext cx="21600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908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0272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16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4000" y="53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5589720"/>
            <a:ext cx="21600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5589720"/>
            <a:ext cx="1008000" cy="360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300640"/>
            <a:ext cx="144360" cy="649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195640" y="5950080"/>
            <a:ext cx="79200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5229360"/>
            <a:ext cx="215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941720"/>
            <a:ext cx="2160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6237360"/>
            <a:ext cx="216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8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6892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200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436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3860640"/>
            <a:ext cx="142920" cy="1008360"/>
          </a:xfrm>
          <a:custGeom>
            <a:avLst/>
            <a:gdLst/>
            <a:ahLst/>
            <a:rect l="l" t="t" r="r" b="b"/>
            <a:pathLst>
              <a:path w="90" h="635">
                <a:moveTo>
                  <a:pt x="90" y="0"/>
                </a:moveTo>
                <a:cubicBezTo>
                  <a:pt x="45" y="106"/>
                  <a:pt x="0" y="212"/>
                  <a:pt x="0" y="318"/>
                </a:cubicBezTo>
                <a:cubicBezTo>
                  <a:pt x="0" y="424"/>
                  <a:pt x="75" y="582"/>
                  <a:pt x="90" y="6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3860640"/>
            <a:ext cx="144720" cy="1008360"/>
          </a:xfrm>
          <a:custGeom>
            <a:avLst/>
            <a:gdLst/>
            <a:ahLst/>
            <a:rect l="l" t="t" r="r" b="b"/>
            <a:pathLst>
              <a:path w="91" h="635">
                <a:moveTo>
                  <a:pt x="0" y="0"/>
                </a:moveTo>
                <a:cubicBezTo>
                  <a:pt x="45" y="106"/>
                  <a:pt x="91" y="212"/>
                  <a:pt x="91" y="318"/>
                </a:cubicBezTo>
                <a:cubicBezTo>
                  <a:pt x="91" y="424"/>
                  <a:pt x="15" y="582"/>
                  <a:pt x="0" y="6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20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40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200"/>
                            </p:stCondLst>
                            <p:childTnLst>
                              <p:par>
                                <p:cTn id="6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7200"/>
                            </p:stCondLst>
                            <p:childTnLst>
                              <p:par>
                                <p:cTn id="6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300"/>
                            </p:stCondLst>
                            <p:childTnLst>
                              <p:par>
                                <p:cTn id="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800"/>
                            </p:stCondLst>
                            <p:childTnLst>
                              <p:par>
                                <p:cTn id="6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9300"/>
                            </p:stCondLst>
                            <p:childTnLst>
                              <p:par>
                                <p:cTn id="6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6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2300"/>
                            </p:stCondLst>
                            <p:childTnLst>
                              <p:par>
                                <p:cTn id="6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2800"/>
                            </p:stCondLst>
                            <p:childTnLst>
                              <p:par>
                                <p:cTn id="6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3300"/>
                            </p:stCondLst>
                            <p:childTnLst>
                              <p:par>
                                <p:cTn id="6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4300"/>
                            </p:stCondLst>
                            <p:childTnLst>
                              <p:par>
                                <p:cTn id="7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300"/>
                            </p:stCondLst>
                            <p:childTnLst>
                              <p:par>
                                <p:cTn id="7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800"/>
                            </p:stCondLst>
                            <p:childTnLst>
                              <p:par>
                                <p:cTn id="7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6300"/>
                            </p:stCondLst>
                            <p:childTnLst>
                              <p:par>
                                <p:cTn id="7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68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68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8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68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68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8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8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68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69228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атрицу смежности данного графа можно рассматривать как матрицу смежности симметричного оргграф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133720"/>
            <a:ext cx="34768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ейный подграф –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03640" y="2133720"/>
            <a:ext cx="46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раф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подграф, в кот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й вершины полу-степень исхода и полу-степнь захода равны 1. Таким образом такой подграф содержит непересекающийся набор простых контуров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076640"/>
            <a:ext cx="48956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авной подграф граф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4149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7440" y="41497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ый подграф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ит все вер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5300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332000" y="5300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300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332000" y="616572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56000" y="530028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5300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30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609300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530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530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530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530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5300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609300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300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6093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comb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750"/>
                            </p:stCondLst>
                            <p:childTnLst>
                              <p:par>
                                <p:cTn id="8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250"/>
                            </p:stCondLst>
                            <p:childTnLst>
                              <p:par>
                                <p:cTn id="8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250"/>
                            </p:stCondLst>
                            <p:childTnLst>
                              <p:par>
                                <p:cTn id="8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2466 -0.43838 E">
                                      <p:cBhvr>
                                        <p:cTn id="82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250"/>
                            </p:stCondLst>
                            <p:childTnLst>
                              <p:par>
                                <p:cTn id="8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250"/>
                            </p:stCondLst>
                            <p:childTnLst>
                              <p:par>
                                <p:cTn id="8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37518 -0.16555 E">
                                      <p:cBhvr>
                                        <p:cTn id="83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4250"/>
                            </p:stCondLst>
                            <p:childTnLst>
                              <p:par>
                                <p:cTn id="8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06007 -0.15515 E">
                                      <p:cBhvr>
                                        <p:cTn id="84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6250"/>
                            </p:stCondLst>
                            <p:childTnLst>
                              <p:par>
                                <p:cTn id="8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250"/>
                            </p:stCondLst>
                            <p:childTnLst>
                              <p:par>
                                <p:cTn id="8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8250"/>
                            </p:stCondLst>
                            <p:childTnLst>
                              <p:par>
                                <p:cTn id="8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9250"/>
                            </p:stCondLst>
                            <p:childTnLst>
                              <p:par>
                                <p:cTn id="8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250"/>
                            </p:stCondLst>
                            <p:childTnLst>
                              <p:par>
                                <p:cTn id="8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1250"/>
                            </p:stCondLst>
                            <p:childTnLst>
                              <p:par>
                                <p:cTn id="8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2250"/>
                            </p:stCondLst>
                            <p:childTnLst>
                              <p:par>
                                <p:cTn id="8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325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4250"/>
                            </p:stCondLst>
                            <p:childTnLst>
                              <p:par>
                                <p:cTn id="8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250"/>
                            </p:stCondLst>
                            <p:childTnLst>
                              <p:par>
                                <p:cTn id="9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625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7250"/>
                            </p:stCondLst>
                            <p:childTnLst>
                              <p:par>
                                <p:cTn id="9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8250"/>
                            </p:stCondLst>
                            <p:childTnLst>
                              <p:par>
                                <p:cTn id="9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925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250"/>
                            </p:stCondLst>
                            <p:childTnLst>
                              <p:par>
                                <p:cTn id="9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1250"/>
                            </p:stCondLst>
                            <p:childTnLst>
                              <p:par>
                                <p:cTn id="9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mb dir="horz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500"/>
                            </p:stCondLst>
                            <p:childTnLst>
                              <p:par>
                                <p:cTn id="9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4532 -0.32301 E">
                                      <p:cBhvr>
                                        <p:cTn id="99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908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05264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48428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85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292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55640" y="1557360"/>
            <a:ext cx="453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4360" y="2997360"/>
            <a:ext cx="5839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4360" y="4365720"/>
            <a:ext cx="498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9564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В - матрица инциден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885080" y="5373720"/>
            <a:ext cx="379440" cy="25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60560" y="3716280"/>
            <a:ext cx="861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09440" y="350028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2160" y="378936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цидентн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00600" y="11905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цидент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4280" y="213372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рица инциденции связывает ребра и 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5800" y="30448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неориентированного граф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3960" y="4221000"/>
            <a:ext cx="27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противном случ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5373720"/>
            <a:ext cx="431640" cy="7192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5373720"/>
            <a:ext cx="1511280" cy="712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92000" y="5445000"/>
            <a:ext cx="358920" cy="7207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6093000"/>
            <a:ext cx="720720" cy="727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987640" y="4797000"/>
            <a:ext cx="504720" cy="13683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20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3400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45280" y="596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1000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10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4964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1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9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8720" y="50133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68440" y="4437000"/>
            <a:ext cx="394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3)(1,5)(2,4)(3,4)(4,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ы  1    1      1      1     0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0      0      0     0      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1      0      0     1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0      0     1      1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0     1      0      0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1680" y="560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4724280"/>
            <a:ext cx="142920" cy="1729080"/>
          </a:xfrm>
          <a:custGeom>
            <a:avLst/>
            <a:gdLst/>
            <a:ahLst/>
            <a:rect l="l" t="t" r="r" b="b"/>
            <a:pathLst>
              <a:path w="182" h="998">
                <a:moveTo>
                  <a:pt x="182" y="0"/>
                </a:moveTo>
                <a:cubicBezTo>
                  <a:pt x="91" y="189"/>
                  <a:pt x="0" y="379"/>
                  <a:pt x="0" y="545"/>
                </a:cubicBezTo>
                <a:cubicBezTo>
                  <a:pt x="0" y="711"/>
                  <a:pt x="152" y="922"/>
                  <a:pt x="182" y="9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820000" y="4653000"/>
            <a:ext cx="228600" cy="1800360"/>
          </a:xfrm>
          <a:custGeom>
            <a:avLst/>
            <a:gdLst/>
            <a:ahLst/>
            <a:rect l="l" t="t" r="r" b="b"/>
            <a:pathLst>
              <a:path w="144" h="1134">
                <a:moveTo>
                  <a:pt x="46" y="0"/>
                </a:moveTo>
                <a:cubicBezTo>
                  <a:pt x="95" y="223"/>
                  <a:pt x="144" y="446"/>
                  <a:pt x="136" y="635"/>
                </a:cubicBezTo>
                <a:cubicBezTo>
                  <a:pt x="128" y="824"/>
                  <a:pt x="64" y="979"/>
                  <a:pt x="0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  <p:sndAc>
      <p:stSnd>
        <p:snd r:embed="rId2" name="click.wav"/>
      </p:stSnd>
    </p:sndAc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75313 -0.31237 E">
                                      <p:cBhvr>
                                        <p:cTn id="104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8768 -0.6481 E">
                                      <p:cBhvr>
                                        <p:cTn id="105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35938 -0.32301 E">
                                      <p:cBhvr>
                                        <p:cTn id="1077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8:50:54Z</dcterms:created>
  <dc:creator>Михаил</dc:creator>
  <dc:description/>
  <dc:language>en-US</dc:language>
  <cp:lastModifiedBy>Михаил</cp:lastModifiedBy>
  <dcterms:modified xsi:type="dcterms:W3CDTF">2005-05-28T14:57:09Z</dcterms:modified>
  <cp:revision>2</cp:revision>
  <dc:subject/>
  <dc:title>Слайд 1</dc:title>
</cp:coreProperties>
</file>