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3A07-61CD-4154-B366-F96F626F1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CFE8-267E-4BE6-98EB-7F7804D8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AC95-6CFD-413B-9C6C-292ABED50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E11B-E743-44AD-BF78-846F5A1B1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85A1-5804-4FE9-A2C8-B93F3E56E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D823-3F54-47C6-9D6B-4961F508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171F-03E2-4742-958B-82D498E4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5A76-B16F-4C9E-85C1-FBCC4B56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CA70-1E02-4B49-93E5-DEDE00C3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B54E-D952-4DA0-A9A6-58F86EA8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AD58-5B3A-4C0C-8A21-5A91CD67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D3BD-D14F-4E11-97FB-D25372EC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6436-71F8-446E-A181-D5F42299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DD9F-57EF-4123-AFFB-4919C971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11E3-8D15-4C07-A036-018B3208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02D6-346D-4630-9069-68CBD962A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B10A-1767-427C-BBEE-C6B7C6935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6BDB-1E8A-4118-BD8F-60D1D1B6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996F-F286-43C1-A32E-37FC4702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109E-CAB5-4DA9-8882-7877B84D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2E9D-AA17-4D86-8009-0A1D8117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98DF-42EE-482E-86C3-F2846D6E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ADF7-7CB6-4924-8ABD-98F2156A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0677-2D8F-48C7-B769-B81B7BB2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9463-65CF-4E9F-999F-20C21BA647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9A99-EBBB-4224-BA15-879A116EAD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ПРЕДИКАТЫ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Двухместный предикат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вухместным предикатом Р(х,у) называется функция двух переменных х и   у (субъекты предиката), определенная на множестве М =М1 </a:t>
            </a:r>
            <a:r>
              <a:rPr b="0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М2 (х</a:t>
            </a:r>
            <a:r>
              <a:rPr b="0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М1 , у</a:t>
            </a:r>
            <a:r>
              <a:rPr b="0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М2 ) и принимающая значения из множества {1,0}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PMingLiU"/>
              </a:rPr>
              <a:t>n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– местный предика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PMingLiU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местным предикатом называется функци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PMingLiU"/>
              </a:rPr>
              <a:t>Q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PMingLiU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PMingLiU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,…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PMingLiU"/>
              </a:rPr>
              <a:t>x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, определенная на множестве М = М1</a:t>
            </a:r>
            <a:r>
              <a:rPr b="0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М2</a:t>
            </a:r>
            <a:r>
              <a:rPr b="0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PMingLiU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и принимающая на этом множестве значение из множества {1, 0}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Логические операции над предикатам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икаты, так же, как высказывания, принимают два значения истина и ложь (1, 0), поэтому к ним применимы все операции логики высказыва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смотрим применение операций логики высказыва­ний к предикатам на примерах одноместных предикатов. На некотором множестве М определены два предиката -Р(х) 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, рассмотрим некоторые возможные логические операц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онъюнкц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ъюнкцией двух предикатов Р(х) 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 называется новый предикат Р(х)</a:t>
            </a:r>
            <a:r>
              <a:rPr b="0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, который принимает значение «истина» при тех и только тех зна­чениях х </a:t>
            </a:r>
            <a:r>
              <a:rPr b="0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М, при которых каждый из предикатов при­нимает значение «истина», и принимает значение «ложь» во всех остальных случа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(х)</a:t>
            </a:r>
            <a:r>
              <a:rPr b="0" lang="ru-RU" sz="4400" spc="-1" strike="noStrike">
                <a:solidFill>
                  <a:srgbClr val="ffffff"/>
                </a:solidFill>
                <a:latin typeface="Symbol"/>
                <a:ea typeface="Symbol"/>
              </a:rPr>
              <a:t>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619280" y="2133720"/>
            <a:ext cx="604836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Дизъюнкц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изъюнкцией двух предикатов Р(х) 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 называется новый предикат         Р(х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PMingLiU"/>
              </a:rPr>
              <a:t>V Q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PMingLiU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, который принимает значение «ложь» при тех и только тех значе­ниях х </a:t>
            </a:r>
            <a:r>
              <a:rPr b="0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М, при которых каждый из предикатов при­нимает значение «ложь» и принимает значение «истина»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 всех остальных случа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(х)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PMingLiU"/>
              </a:rPr>
              <a:t>V Q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PMingLiU"/>
              </a:rPr>
              <a:t>x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684216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триц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рицанием предиката Р(х) называется новый предикат Р(х) 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PMingLiU"/>
              </a:rPr>
              <a:t>Q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PMingLiU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, который принимает значение «истина» при всех значениях х </a:t>
            </a:r>
            <a:r>
              <a:rPr b="0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М, при которых предикат Р(х) принимает значение «ложь», и принимает значение «ложь» при тех значениях х </a:t>
            </a:r>
            <a:r>
              <a:rPr b="0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М, при кото­рых предикат Р(х) принимает значение «истин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(х) -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PMingLiU"/>
              </a:rPr>
              <a:t>Q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PMingLiU"/>
              </a:rPr>
              <a:t>x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)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619280" y="2133720"/>
            <a:ext cx="6119640" cy="32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мпликац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мпликацией предикатов Р{х) и Q(х) называется новый предикат Р(x)</a:t>
            </a:r>
            <a:r>
              <a:rPr b="0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, который является ложным при тех и только тех значениях х </a:t>
            </a:r>
            <a:r>
              <a:rPr b="0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М, при которых одновременно Р(х) принимает значение «истина»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Q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 - значение «ложь» и принимает значе­ние «истина» во всех остальных случая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29600" cy="57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алгебре логики все высказывания рассматриваются как истина или лож. Ни структура высказываний, ни их содержание не затрагиваются. В науке, и в практике используются заключения, существенным образом зависящие как от структуры, так и от содержания, следовательно, алгебра логики оказывается недостаточной в анализе многих рассуждений. В связи с этим возникает необходимость в расширении логики высказываний, такой логической системой является логика предика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(x)</a:t>
            </a:r>
            <a:r>
              <a:rPr b="0" lang="ru-RU" sz="4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568980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огика предикатов расчленяет элементарное высказывание на субъект (буквально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одлежащее, хотя оно и может играть роль дополнения) и предикат (буквально - сказуемое, хотя оно может играть и роль определения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то, о чем что-то утверждается в высказывании;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едика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это то, что утверждается о субъек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691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едика́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n-местный, или n-арный) - это функция с множеством значений {0,1} (или «ложь» и «истина»), определённая на множеств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×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×…×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Таким образом, каждый набор элементов множества M он характеризует либо как «истинный», либо как «ложный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икат называют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ождественно-истинны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если на любом наборе аргументов он принимает знач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и пишу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(x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,…, xn) ≡ 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икат называют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ождественно-ложны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если на любом наборе аргументов он принимает значение 0 и пишу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(x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,…, xn) ≡ 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икат называют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полнимы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если хотя бы на одном наборе аргументов он принимает значение 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дноместный предика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оместным предикатом Р(х) называется произвольная функция переменного х, определенная на множестве М и принимающая значения из множества {1,0}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ножество М, на котором определен предикат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х) , называется областью определения предика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ножество всех элементов х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М , при которых предикат принимает значение «истина», называется множеством истинности предиката Р(х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ождественно истинный предик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икат Р(х), определенный на множестве М, называется тождественно истинным (тождественно ложным), если 1р = М (1р = </a:t>
            </a:r>
            <a:r>
              <a:rPr b="0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тественным обобщением понятия одноместного предиката является понятие многоместного предиката, с помощью которого выражаются отношения между предмет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00:38:22Z</dcterms:created>
  <dc:creator>Виталий</dc:creator>
  <dc:description/>
  <dc:language>en-US</dc:language>
  <cp:lastModifiedBy>Виталий</cp:lastModifiedBy>
  <dcterms:modified xsi:type="dcterms:W3CDTF">2010-12-17T20:18:23Z</dcterms:modified>
  <cp:revision>5</cp:revision>
  <dc:subject/>
  <dc:title>Слайд 1</dc:title>
</cp:coreProperties>
</file>